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CLIC.WAV" ContentType="audio/x-wav"/>
  <Override PartName="/ppt/media/whoosh.wav" ContentType="audio/x-wav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523-BD1E-4168-AD43-89FDE228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93D-8764-47EE-9CEE-B6EF3E99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495-D26D-45B6-BE7C-B63CC961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33A-5ABF-4281-B94C-866996A5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113F-D3C9-40C8-9D39-547D1CAB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52C6-E43B-4015-89DE-ADDD857D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CC62-FA33-4E7E-A9E8-4BBE23A5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AC3F-F2F0-4B24-A9FE-34907F00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F712-43DA-49D5-9EE2-59EAE8A3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4DFF-4AE5-404E-8512-2B61B834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1CE1-F843-44C5-BA25-6283CFAA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0C2-52F3-424D-809B-10EE2E35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826E-9D16-4E2F-ABC2-F64BF17C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D396-FF2E-439C-B571-B7A6B00A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F89A-51A6-4A81-A13B-73E793AC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7671-CAF7-497F-B88C-E13D8B8B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2D62-2BAF-4E53-802F-A50281C5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CFA5-ADA4-418A-83C1-1A590624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1B5-1760-4928-BFA0-79C4E6FF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DBFD-898B-4EBD-A152-2A264558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7E3D-9519-43BA-9B8E-A73C1490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67C2-9870-4DD4-9FFD-10E0B6FA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48E-BEC3-4EA1-8D81-39A72BE4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B48-4D33-4287-B3D9-CB347BBB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209A-EAC1-4C78-A9B2-F91FFF8D38B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ED25-A65E-4983-986F-531D2C074E8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2491920"/>
            <a:ext cx="741672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ae0d"/>
                </a:solidFill>
                <a:latin typeface="Tahoma"/>
              </a:rPr>
              <a:t>TEMA 2 ESTUDIO DE MERCADO</a:t>
            </a:r>
            <a:br>
              <a:rPr sz="3600"/>
            </a:br>
            <a:r>
              <a:rPr b="1" lang="es-CR" sz="3600" spc="-1" strike="noStrike">
                <a:solidFill>
                  <a:srgbClr val="ffae0d"/>
                </a:solidFill>
                <a:latin typeface="Tahoma"/>
              </a:rPr>
              <a:t>(ANALISIS DE LA DEMANDA SOCIAL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ae0d"/>
                </a:solidFill>
                <a:latin typeface="Tahoma"/>
              </a:rPr>
              <a:t>3.-ANÁLISIS DE DEMAND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9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Demanda: Cantidad de bienes o servicios que el mercado requiere o solicita para buscar la satisfacción de una necesidad específica a un precio determinado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9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90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(G.B. Urbina).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9000"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480" y="1218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terminar y medir cuáles son los factores que afectan los requerimientos del bien o servicio, así como la posibilidad de participación del producto del proyecto en la satisfacción de dicha deman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análisis de la demanda se hace en tres momentos: Demanda Histórica, Actual y Futu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Object 4" descr=""/>
          <p:cNvPicPr/>
          <p:nvPr/>
        </p:nvPicPr>
        <p:blipFill>
          <a:blip r:embed="rId1"/>
          <a:stretch/>
        </p:blipFill>
        <p:spPr>
          <a:xfrm>
            <a:off x="7620120" y="4876920"/>
            <a:ext cx="1144440" cy="17524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ae0d"/>
                </a:solidFill>
                <a:latin typeface="Tahoma"/>
              </a:rPr>
              <a:t>3.-ANÁLISIS DE DEMAND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ff"/>
                </a:solidFill>
                <a:latin typeface="Tahoma"/>
              </a:rPr>
              <a:t>Proyección Mínimos cuadrad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ff"/>
                </a:solidFill>
                <a:latin typeface="Tahoma"/>
              </a:rPr>
              <a:t>Modelo de coeficientes técn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ae0d"/>
                </a:solidFill>
                <a:latin typeface="Tahoma"/>
              </a:rPr>
              <a:t>MÉTODOS DE PROYECCIÓ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ae0d"/>
                </a:solidFill>
                <a:latin typeface="Tahoma"/>
              </a:rPr>
              <a:t>MÉTODOS DE PROYECCIÓ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2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xtrapolación de la tendencia histórica, mediante método de regresión: Lineal, Logarítmico, Polinomial, Expon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terminar una ecuación de regresión mediante métodos gráficos o estadísticos (mínimos cuadrad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2556000" y="5373720"/>
                <a:ext cx="367344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400" spc="-1" strike="noStrike">
                <a:solidFill>
                  <a:srgbClr val="ffae0d"/>
                </a:solidFill>
                <a:latin typeface="Tahoma"/>
              </a:rPr>
              <a:t>REGRESIÓN LINE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5364000" y="2852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5796000" y="285264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5364000" y="3789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3362040" y="5229360"/>
            <a:ext cx="23310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000000"/>
                </a:solidFill>
                <a:latin typeface="Tahoma"/>
              </a:rPr>
              <a:t>a = Y – b 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21"/>
              <p:cNvSpPr txBox="1"/>
              <p:nvPr/>
            </p:nvSpPr>
            <p:spPr>
              <a:xfrm>
                <a:off x="3276720" y="1557360"/>
                <a:ext cx="2438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22"/>
              <p:cNvSpPr txBox="1"/>
              <p:nvPr/>
            </p:nvSpPr>
            <p:spPr>
              <a:xfrm>
                <a:off x="1963800" y="2535120"/>
                <a:ext cx="595476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Line 26"/>
          <p:cNvSpPr/>
          <p:nvPr/>
        </p:nvSpPr>
        <p:spPr>
          <a:xfrm>
            <a:off x="4211640" y="5373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5435640" y="5373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400" spc="-1" strike="noStrike">
                <a:solidFill>
                  <a:srgbClr val="ffae0d"/>
                </a:solidFill>
                <a:latin typeface="Tahoma"/>
                <a:ea typeface="Tahoma"/>
              </a:rPr>
              <a:t>FACTOR DE CORREL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755640" y="1700280"/>
                <a:ext cx="4754520" cy="20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755640" y="4005360"/>
                <a:ext cx="7105680" cy="23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f>
                          <m:num>
                            <m:r>
                              <m:t xml:space="preserve">a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Y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bar>
                                  </m:e>
                                </m:nary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s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ae0d"/>
                </a:solidFill>
                <a:latin typeface="Tahoma"/>
              </a:rPr>
              <a:t>EJEMPLO CONSUMO HISTÓRICO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4360" y="476280"/>
          <a:ext cx="8135640" cy="6370560"/>
        </p:xfrm>
        <a:graphic>
          <a:graphicData uri="http://schemas.openxmlformats.org/drawingml/2006/table">
            <a:tbl>
              <a:tblPr/>
              <a:tblGrid>
                <a:gridCol w="2727000"/>
                <a:gridCol w="5408640"/>
              </a:tblGrid>
              <a:tr h="3351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ñ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nsumo  (Unidad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9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7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9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99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9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99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9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0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9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9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1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9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1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2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2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4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400" spc="-1" strike="noStrike">
                <a:solidFill>
                  <a:srgbClr val="ffae0d"/>
                </a:solidFill>
                <a:latin typeface="Tahoma"/>
                <a:ea typeface="Tahoma"/>
              </a:rPr>
              <a:t>GRÁFICO DE DISPERS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5" name="Object 4" descr=""/>
          <p:cNvPicPr/>
          <p:nvPr/>
        </p:nvPicPr>
        <p:blipFill>
          <a:blip r:embed="rId1"/>
          <a:stretch/>
        </p:blipFill>
        <p:spPr>
          <a:xfrm>
            <a:off x="662040" y="1463760"/>
            <a:ext cx="789156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ae0d"/>
                </a:solidFill>
                <a:latin typeface="Tahoma"/>
                <a:ea typeface="Tahoma"/>
              </a:rPr>
              <a:t>RESULTADO DE REGRESIÓN LINEA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7" name="Object 4" descr=""/>
          <p:cNvPicPr/>
          <p:nvPr/>
        </p:nvPicPr>
        <p:blipFill>
          <a:blip r:embed="rId1"/>
          <a:stretch/>
        </p:blipFill>
        <p:spPr>
          <a:xfrm>
            <a:off x="662040" y="2039760"/>
            <a:ext cx="7823160" cy="40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26"/>
          <p:cNvSpPr/>
          <p:nvPr/>
        </p:nvSpPr>
        <p:spPr>
          <a:xfrm>
            <a:off x="685800" y="38088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ae0d"/>
                </a:solidFill>
                <a:latin typeface="Tahoma"/>
              </a:rPr>
              <a:t>MÉTODOS DE PROYE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1027"/>
          <p:cNvSpPr/>
          <p:nvPr/>
        </p:nvSpPr>
        <p:spPr>
          <a:xfrm>
            <a:off x="762120" y="1447920"/>
            <a:ext cx="7619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coeficientes técnic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dices técnicos de uso normal que manejan las instituciones gubernamentales,  universidades,  centros de investig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-índices de crecimiento de la pobl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-Índices de consumo per-cap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-índices de ingreso per-cap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8120" y="6094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ae0d"/>
                </a:solidFill>
                <a:latin typeface="Tahoma"/>
              </a:rPr>
              <a:t>¿ QUÉ ES MERCADO 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2514240"/>
            <a:ext cx="73911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Se entiende por mercado el área en que confluyen las fuerzas de la oferta y la demanda para realizar las transacciones de bienes o servicios a precios determinado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7" descr="Mercado2"/>
          <p:cNvPicPr/>
          <p:nvPr/>
        </p:nvPicPr>
        <p:blipFill>
          <a:blip r:embed="rId1"/>
          <a:stretch/>
        </p:blipFill>
        <p:spPr>
          <a:xfrm>
            <a:off x="228600" y="152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324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600" spc="-1" strike="noStrike">
                <a:solidFill>
                  <a:srgbClr val="ffae0d"/>
                </a:solidFill>
                <a:latin typeface="Tahoma"/>
                <a:ea typeface="Tahoma"/>
              </a:rPr>
              <a:t>4.-</a:t>
            </a:r>
            <a:r>
              <a:rPr b="1" lang="es-ES_tradnl" sz="3600" spc="-1" strike="noStrike">
                <a:solidFill>
                  <a:srgbClr val="ffae0d"/>
                </a:solidFill>
                <a:latin typeface="Tahoma"/>
                <a:ea typeface="Tahoma"/>
              </a:rPr>
              <a:t>ANÁLISIS DE OFERTA</a:t>
            </a:r>
            <a:br>
              <a:rPr sz="40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1" name="Object 4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600200" cy="9288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oferta es la cantidad de bienes y servicios que un cierto numero de empresas, organizaciones o instituciones están dispuestas a poner a disposición del mercado o la sociedad a un precio o tarifa determin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alizar un inventario de las principales empresas, para conocer su capacidad instalada y lograr determinar su estrategia futu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58676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ae0d"/>
                </a:solidFill>
                <a:latin typeface="Tahoma"/>
              </a:rPr>
              <a:t>5.-DETERMINAR LA DEMANDA INSATISFECH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4" name="Object 6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847800" cy="15242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Es la cantidad de bienes o servicios que es probable que el mercado o la sociedad consuma en años futuros, sobre la cual se ha determinado que ninguna empresa o institución actual podrá satisfacer si prevalecen las condiciones en las cuales se hizo el cálculo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Object 6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47800" cy="15242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ae0d"/>
                </a:solidFill>
                <a:latin typeface="Tahoma"/>
                <a:ea typeface="Tahoma"/>
              </a:rPr>
              <a:t>5.-DETERMINAR LA DEMANDA INSATISFECH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La base de su estimación es la diferencia entre la cantidad demandada por los consumidores o sociedad, y la cantidad ofrecida por los competidores del proyecto o capacidad instalad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762120" y="1905120"/>
            <a:ext cx="777240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Analizar en función de la influencia de otros factor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Costos de producción, legislación y  normas vigentes sobre el producto y  canales de comercializaci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Object 4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847800" cy="15242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2438280" y="304920"/>
            <a:ext cx="6172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ae0d"/>
                </a:solidFill>
                <a:latin typeface="Tahoma"/>
              </a:rPr>
              <a:t>5.-DETERMINAR LA DEMANDA INSATISFECH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57400" y="380880"/>
            <a:ext cx="59436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ae0d"/>
                </a:solidFill>
                <a:latin typeface="Tahoma"/>
              </a:rPr>
              <a:t>6.-ANÁLISIS DE PRECIOS O TARIFA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3" name="Object 4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1247760" cy="1523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cio existente en el mercad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cios del mercado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cio de similares impor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cios regulados por el sector pú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cios en función del costo de 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cios en función de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cios reg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arifas diferenciadas por tipo de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95640" y="609120"/>
            <a:ext cx="62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ae0d"/>
                </a:solidFill>
                <a:latin typeface="Tahoma"/>
              </a:rPr>
              <a:t>7.-COMERCIALIZACIÓN O MARKETING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ffffff"/>
                </a:solidFill>
                <a:latin typeface="Tahoma"/>
              </a:rPr>
              <a:t>Analizar los mecanismos que se están empleando en el mercado de los bienes y servicios para hacer llegar a los clientes el producto en el tiempo justo, con la calidad  adecuada y al precio requeri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4" descr="j0149912"/>
          <p:cNvPicPr/>
          <p:nvPr/>
        </p:nvPicPr>
        <p:blipFill>
          <a:blip r:embed="rId1"/>
          <a:stretch/>
        </p:blipFill>
        <p:spPr>
          <a:xfrm>
            <a:off x="250920" y="189000"/>
            <a:ext cx="197964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Definir las estrategias necesarias para poder incidir en los hábitos de consum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ae0d"/>
                </a:solidFill>
                <a:latin typeface="Tahoma"/>
                <a:ea typeface="Tahoma"/>
              </a:rPr>
              <a:t>7.-COMERCIALIZACIÓN O MARKETING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4419720" y="3200400"/>
            <a:ext cx="4328640" cy="3036600"/>
            <a:chOff x="4419720" y="3200400"/>
            <a:chExt cx="4328640" cy="3036600"/>
          </a:xfrm>
        </p:grpSpPr>
        <p:sp>
          <p:nvSpPr>
            <p:cNvPr id="171" name="AutoShape 6"/>
            <p:cNvSpPr/>
            <p:nvPr/>
          </p:nvSpPr>
          <p:spPr>
            <a:xfrm>
              <a:off x="4419720" y="3200400"/>
              <a:ext cx="4328640" cy="3036600"/>
            </a:xfrm>
            <a:prstGeom prst="cloudCallout">
              <a:avLst>
                <a:gd name="adj1" fmla="val -39203"/>
                <a:gd name="adj2" fmla="val 98611"/>
              </a:avLst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" name="Picture 7" descr="j0149912"/>
            <p:cNvPicPr/>
            <p:nvPr/>
          </p:nvPicPr>
          <p:blipFill>
            <a:blip r:embed="rId1"/>
            <a:stretch/>
          </p:blipFill>
          <p:spPr>
            <a:xfrm>
              <a:off x="5469480" y="3489120"/>
              <a:ext cx="2491560" cy="220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3" name="Picture 8" descr="BD06784_"/>
          <p:cNvPicPr/>
          <p:nvPr/>
        </p:nvPicPr>
        <p:blipFill>
          <a:blip r:embed="rId2"/>
          <a:stretch/>
        </p:blipFill>
        <p:spPr>
          <a:xfrm>
            <a:off x="2895480" y="4876920"/>
            <a:ext cx="181944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7400" y="800280"/>
            <a:ext cx="62596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ae0d"/>
                </a:solidFill>
                <a:latin typeface="Tahoma"/>
                <a:ea typeface="Tahoma"/>
              </a:rPr>
              <a:t>MARKETING SOCIA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5" name="Object 3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98760" cy="16761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Análisis que permite determinar las estrategias y mecanismos que facilitarán hacer un uso racional y efectivo de los servicios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057400" y="800280"/>
            <a:ext cx="62596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c000"/>
                </a:solidFill>
                <a:latin typeface="Tahoma"/>
                <a:ea typeface="Tahoma"/>
              </a:rPr>
              <a:t>Marketing Social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8" name="Object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598400" cy="1676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Tahoma"/>
              </a:rPr>
              <a:t>Es la aplicación de las técnicas del marketing comercial para el análisis, planeamiento, ejecución y evaluación de programas diseñados para influir en el comportamiento involuntario de la audiencia objetivo en orden a mejorar su bienestar personal y el de su sociedad"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  <a:ea typeface="Tahoma"/>
              </a:rPr>
              <a:t>Alan Andreas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  <a:ea typeface="Tahoma"/>
              </a:rPr>
              <a:t>Marketing Social Change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ae0d"/>
                </a:solidFill>
                <a:latin typeface="Tahoma"/>
              </a:rPr>
              <a:t>OBJETIVOS DEL ESTUDIO DE MERCAD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87128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Determinar la existencia de una </a:t>
            </a:r>
            <a:r>
              <a:rPr b="0" lang="es-ES_tradnl" sz="4000" spc="-1" strike="noStrike" u="sng">
                <a:solidFill>
                  <a:srgbClr val="ffffff"/>
                </a:solidFill>
                <a:uFillTx/>
                <a:latin typeface="Tahoma"/>
              </a:rPr>
              <a:t>necesidad insatisfecha </a:t>
            </a: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en el mercado, o la posibilidad de brindar un </a:t>
            </a:r>
            <a:r>
              <a:rPr b="0" lang="es-ES_tradnl" sz="4000" spc="-1" strike="noStrike" u="sng">
                <a:solidFill>
                  <a:srgbClr val="ffffff"/>
                </a:solidFill>
                <a:uFillTx/>
                <a:latin typeface="Tahoma"/>
              </a:rPr>
              <a:t>mejor servicio </a:t>
            </a: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que el ofrecido actualment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Object 4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762120" y="1828800"/>
            <a:ext cx="7696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Determinar la cantidad de bienes o servicios provenientes de una nueva unidad de producción que la comunidad estaría dispuesta a adquirir a determinados </a:t>
            </a:r>
            <a:r>
              <a:rPr b="0" lang="es-ES_tradnl" sz="3600" spc="-1" strike="noStrike" u="sng">
                <a:solidFill>
                  <a:srgbClr val="ffffff"/>
                </a:solidFill>
                <a:uFillTx/>
                <a:latin typeface="Tahoma"/>
              </a:rPr>
              <a:t>precios</a:t>
            </a: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 (tarifas, costos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Object 5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9"/>
          <p:cNvSpPr/>
          <p:nvPr/>
        </p:nvSpPr>
        <p:spPr>
          <a:xfrm>
            <a:off x="1905120" y="304920"/>
            <a:ext cx="6172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2286000" y="304920"/>
            <a:ext cx="6172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ae0d"/>
                </a:solidFill>
                <a:latin typeface="Tahoma"/>
              </a:rPr>
              <a:t>OBJETIVOS DEL ESTUDIO DE MERCA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13" descr="BS00508_"/>
          <p:cNvPicPr/>
          <p:nvPr/>
        </p:nvPicPr>
        <p:blipFill>
          <a:blip r:embed="rId2"/>
          <a:stretch/>
        </p:blipFill>
        <p:spPr>
          <a:xfrm>
            <a:off x="5562720" y="4876920"/>
            <a:ext cx="233676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838080" y="228600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onocer cuáles son los medios que se están empleando para hacer llegar los bienes o servicios a los usuario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Object 3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1905120" y="304920"/>
            <a:ext cx="6172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600200" y="228600"/>
            <a:ext cx="7086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ae0d"/>
                </a:solidFill>
                <a:latin typeface="Tahoma"/>
              </a:rPr>
              <a:t>OBJETIVOS DEL ESTUDIO DE MERCA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990720" y="2209680"/>
            <a:ext cx="7238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Dar una idea al inversionista del riesgo que su producto corre al ser o no ser aceptado en el mercad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438280" y="533520"/>
            <a:ext cx="6172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ae0d"/>
                </a:solidFill>
                <a:latin typeface="Tahoma"/>
              </a:rPr>
              <a:t>OBJETIVOS DEL ESTUDIO DE MERCA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5" descr="BD04972_"/>
          <p:cNvPicPr/>
          <p:nvPr/>
        </p:nvPicPr>
        <p:blipFill>
          <a:blip r:embed="rId1"/>
          <a:stretch/>
        </p:blipFill>
        <p:spPr>
          <a:xfrm>
            <a:off x="5410080" y="4248000"/>
            <a:ext cx="3124440" cy="234324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6" descr=""/>
          <p:cNvPicPr/>
          <p:nvPr/>
        </p:nvPicPr>
        <p:blipFill>
          <a:blip r:embed="rId2"/>
          <a:stretch/>
        </p:blipFill>
        <p:spPr>
          <a:xfrm>
            <a:off x="914400" y="380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78168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ae0d"/>
                </a:solidFill>
                <a:latin typeface="Tahoma"/>
              </a:rPr>
              <a:t>CONTENIDO DEL ESTUDIO DE MERCADO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560520" indent="-560520">
              <a:lnSpc>
                <a:spcPct val="90000"/>
              </a:lnSpc>
              <a:buClr>
                <a:srgbClr val="ffff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Definir el bien o el servicio: Operación del proye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buClr>
                <a:srgbClr val="ffff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Caracterizar a los clientes o usuar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buClr>
                <a:srgbClr val="ffff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Análisis de dem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buClr>
                <a:srgbClr val="ffff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Análisis de ofer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buClr>
                <a:srgbClr val="ffff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Determinar la demanda insatisfech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buClr>
                <a:srgbClr val="ffff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Análisis de precios o tarif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buClr>
                <a:srgbClr val="ffff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Comercialización o marke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52280" y="0"/>
            <a:ext cx="1981440" cy="175248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5" descr=""/>
          <p:cNvPicPr/>
          <p:nvPr/>
        </p:nvPicPr>
        <p:blipFill>
          <a:blip r:embed="rId2"/>
          <a:stretch/>
        </p:blipFill>
        <p:spPr>
          <a:xfrm>
            <a:off x="1295280" y="533520"/>
            <a:ext cx="528840" cy="685800"/>
          </a:xfrm>
          <a:prstGeom prst="rect">
            <a:avLst/>
          </a:prstGeom>
          <a:ln w="0">
            <a:noFill/>
          </a:ln>
        </p:spPr>
      </p:pic>
      <p:pic>
        <p:nvPicPr>
          <p:cNvPr id="112" name="Object 6" descr=""/>
          <p:cNvPicPr/>
          <p:nvPr/>
        </p:nvPicPr>
        <p:blipFill>
          <a:blip r:embed="rId3"/>
          <a:stretch/>
        </p:blipFill>
        <p:spPr>
          <a:xfrm>
            <a:off x="380880" y="457200"/>
            <a:ext cx="76212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ae0d"/>
                </a:solidFill>
                <a:latin typeface="Tahoma"/>
              </a:rPr>
              <a:t>1.-DEFINIR EL BIEN O SERVICIO</a:t>
            </a:r>
            <a:endParaRPr b="0" lang="en-US" sz="3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finir de manera cualitativa y cuantitativa la forma en que se brindara el servicio o se ofrecerá el produ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sustenta en las especificaciones del producto y las normas estatales o inter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9" descr="PE02649_"/>
          <p:cNvPicPr/>
          <p:nvPr/>
        </p:nvPicPr>
        <p:blipFill>
          <a:blip r:embed="rId1"/>
          <a:stretch/>
        </p:blipFill>
        <p:spPr>
          <a:xfrm>
            <a:off x="6629400" y="4419720"/>
            <a:ext cx="2362320" cy="1971720"/>
          </a:xfrm>
          <a:prstGeom prst="rect">
            <a:avLst/>
          </a:prstGeom>
          <a:ln w="0">
            <a:noFill/>
          </a:ln>
        </p:spPr>
      </p:pic>
      <p:pic>
        <p:nvPicPr>
          <p:cNvPr id="116" name="Object 12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114624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562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ae0d"/>
                </a:solidFill>
                <a:latin typeface="Tahoma"/>
              </a:rPr>
              <a:t>2.-CARACTERIZAR A LOS CLIENTES O USUARI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514600" cy="15778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spcAft>
                <a:spcPts val="1675"/>
              </a:spcAft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Estrat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: ¿son todas las personas, o sólo las de algunos grupos de edades o de ingresos, o quizá solo los trabajadores manuales o sólo los intelectuales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spcAft>
                <a:spcPts val="1675"/>
              </a:spcAft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Su ubica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: ¿dónde están los consumidores? ¿dispersos por todo el país ? ¿en algún país determinado? ¿en una región? ¿en el recinto de una universidad, de un hospital o de una oficina públic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6T14:45:33Z</dcterms:created>
  <dc:creator>Sergio Vega Mayorga</dc:creator>
  <dc:description/>
  <dc:language>en-US</dc:language>
  <cp:lastModifiedBy>Sergio Ivan Vega Mayorga</cp:lastModifiedBy>
  <cp:lastPrinted>1998-01-17T08:56:07Z</cp:lastPrinted>
  <dcterms:modified xsi:type="dcterms:W3CDTF">2020-08-22T22:00:18Z</dcterms:modified>
  <cp:revision>183</cp:revision>
  <dc:subject/>
  <dc:title>Contenido del Estudio de Mercado</dc:title>
</cp:coreProperties>
</file>