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9.png" ContentType="image/png"/>
  <Override PartName="/ppt/media/image8.wmf" ContentType="image/x-wmf"/>
  <Override PartName="/ppt/media/image11.jpeg" ContentType="image/jpeg"/>
  <Override PartName="/ppt/media/LATIGO.WAV" ContentType="audio/x-wav"/>
  <Override PartName="/ppt/media/image7.wmf" ContentType="image/x-wmf"/>
  <Override PartName="/ppt/media/image12.png" ContentType="image/png"/>
  <Override PartName="/ppt/media/image6.wmf" ContentType="image/x-wmf"/>
  <Override PartName="/ppt/media/image19.wmf" ContentType="image/x-wmf"/>
  <Override PartName="/ppt/media/image14.jpeg" ContentType="image/jpeg"/>
  <Override PartName="/ppt/media/image2.wmf" ContentType="image/x-wmf"/>
  <Override PartName="/ppt/media/image20.png" ContentType="image/png"/>
  <Override PartName="/ppt/media/image18.png" ContentType="image/png"/>
  <Override PartName="/ppt/media/image17.jpeg" ContentType="image/jpeg"/>
  <Override PartName="/ppt/media/image16.jpeg" ContentType="image/jpeg"/>
  <Override PartName="/ppt/media/image13.jpeg" ContentType="image/jpeg"/>
  <Override PartName="/ppt/media/image15.jpeg" ContentType="image/jpeg"/>
  <Override PartName="/ppt/media/image3.wmf" ContentType="image/x-wmf"/>
  <Override PartName="/ppt/media/image1.jpeg" ContentType="image/jpeg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88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4145040" y="0"/>
            <a:ext cx="3170160" cy="4888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271520" y="731880"/>
            <a:ext cx="4773600" cy="357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974880" y="4555800"/>
            <a:ext cx="5365440" cy="43131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0" y="9112320"/>
            <a:ext cx="3170160" cy="4888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4145040" y="9112320"/>
            <a:ext cx="3170160" cy="4888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  <a:defRPr b="0" lang="es-ES_trad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fld id="{0E3E911C-609D-486D-B0E6-0029872DA94A}" type="slidenum"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271520" y="731880"/>
            <a:ext cx="4773600" cy="35798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74880" y="4555800"/>
            <a:ext cx="5365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3 Marcador de número de diapositiva"/>
          <p:cNvSpPr/>
          <p:nvPr/>
        </p:nvSpPr>
        <p:spPr>
          <a:xfrm>
            <a:off x="4145040" y="9112320"/>
            <a:ext cx="3170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fld id="{8972C873-0CFB-4A84-9B5F-843897290316}" type="slidenum">
              <a:rPr b="0" lang="es-ES_tradnl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4145040" y="9112320"/>
            <a:ext cx="3170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fld id="{E68102AE-8C0A-4C50-A06B-AAA26E5ADD35}" type="slidenum">
              <a:rPr b="0" lang="es-ES_tradnl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74880" y="4555800"/>
            <a:ext cx="5365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4145040" y="9112320"/>
            <a:ext cx="3170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fld id="{6C5F0780-E2C8-49C1-91AB-E5A1485ED0C4}" type="slidenum">
              <a:rPr b="0" lang="es-ES_tradnl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271520" y="731880"/>
            <a:ext cx="4773600" cy="35798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74880" y="4555800"/>
            <a:ext cx="5365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271520" y="731880"/>
            <a:ext cx="4773600" cy="35798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74880" y="4555800"/>
            <a:ext cx="5365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3 Marcador de número de diapositiva"/>
          <p:cNvSpPr/>
          <p:nvPr/>
        </p:nvSpPr>
        <p:spPr>
          <a:xfrm>
            <a:off x="4145040" y="9112320"/>
            <a:ext cx="3170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fld id="{E215341D-0057-4BBC-8172-122CC9BE27D6}" type="slidenum">
              <a:rPr b="0" lang="es-ES_tradnl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4145040" y="9112320"/>
            <a:ext cx="3170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fld id="{6647A2C2-ADEB-437F-85AE-94A85E1827A9}" type="slidenum">
              <a:rPr b="0" lang="es-ES_tradnl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271520" y="731880"/>
            <a:ext cx="4773600" cy="35798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74880" y="4555800"/>
            <a:ext cx="5365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271520" y="731880"/>
            <a:ext cx="4773600" cy="35798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74880" y="4555800"/>
            <a:ext cx="5365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3 Marcador de número de diapositiva"/>
          <p:cNvSpPr/>
          <p:nvPr/>
        </p:nvSpPr>
        <p:spPr>
          <a:xfrm>
            <a:off x="4145040" y="9112320"/>
            <a:ext cx="3170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fld id="{655BEA8A-B9F0-401A-BADE-0F36C1930A0F}" type="slidenum">
              <a:rPr b="0" lang="es-ES_tradnl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4145040" y="9112320"/>
            <a:ext cx="3170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fld id="{0513E80E-453C-4B69-BF53-709E0E42B7FA}" type="slidenum">
              <a:rPr b="0" lang="es-ES_tradnl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271520" y="731880"/>
            <a:ext cx="4773600" cy="35798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74880" y="4555800"/>
            <a:ext cx="5365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4145040" y="9112320"/>
            <a:ext cx="3170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fld id="{6B5AB196-7594-49FA-8040-E44AC23D3EBB}" type="slidenum">
              <a:rPr b="0" lang="es-ES_tradnl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271520" y="731880"/>
            <a:ext cx="4773600" cy="35798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74880" y="4555800"/>
            <a:ext cx="5365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4145040" y="9112320"/>
            <a:ext cx="3170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fld id="{5F326DDA-38B4-4209-944B-0CE62A9E4E14}" type="slidenum">
              <a:rPr b="0" lang="es-ES_tradnl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271520" y="731880"/>
            <a:ext cx="4773600" cy="35798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74880" y="4555800"/>
            <a:ext cx="5365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4145040" y="9112320"/>
            <a:ext cx="3170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fld id="{4FE6C04C-00CA-462D-93E0-2F8A1C11EB13}" type="slidenum">
              <a:rPr b="0" lang="es-ES_tradnl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271520" y="731880"/>
            <a:ext cx="4773600" cy="35798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74880" y="4555800"/>
            <a:ext cx="5365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4145040" y="9112320"/>
            <a:ext cx="3170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fld id="{CD3A4128-848B-4040-9148-DBE78DC64444}" type="slidenum">
              <a:rPr b="0" lang="es-ES_tradnl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271520" y="731880"/>
            <a:ext cx="4773600" cy="35798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74880" y="4555800"/>
            <a:ext cx="5365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4145040" y="9112320"/>
            <a:ext cx="3170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fld id="{7E371805-D7FB-4A7A-9DDC-1D8A4D6FB502}" type="slidenum">
              <a:rPr b="0" lang="es-ES_tradnl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271520" y="731880"/>
            <a:ext cx="4773600" cy="35798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74880" y="4555800"/>
            <a:ext cx="5365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71520" y="731880"/>
            <a:ext cx="4773600" cy="35798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74880" y="4555800"/>
            <a:ext cx="5365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3 Marcador de número de diapositiva"/>
          <p:cNvSpPr/>
          <p:nvPr/>
        </p:nvSpPr>
        <p:spPr>
          <a:xfrm>
            <a:off x="4145040" y="9112320"/>
            <a:ext cx="3170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fld id="{02E02A37-EA3C-4BE6-9FD5-4A309D8EBE8C}" type="slidenum">
              <a:rPr b="0" lang="es-ES_tradnl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71520" y="731880"/>
            <a:ext cx="4773600" cy="35798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74880" y="4555800"/>
            <a:ext cx="5365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3 Marcador de número de diapositiva"/>
          <p:cNvSpPr/>
          <p:nvPr/>
        </p:nvSpPr>
        <p:spPr>
          <a:xfrm>
            <a:off x="4145040" y="9112320"/>
            <a:ext cx="3170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fld id="{93D5BB68-09AF-4792-8BDC-B13FC02186E9}" type="slidenum">
              <a:rPr b="0" lang="es-ES_tradnl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271520" y="731880"/>
            <a:ext cx="4773600" cy="35798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74880" y="4555800"/>
            <a:ext cx="5365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3 Marcador de número de diapositiva"/>
          <p:cNvSpPr/>
          <p:nvPr/>
        </p:nvSpPr>
        <p:spPr>
          <a:xfrm>
            <a:off x="4145040" y="9112320"/>
            <a:ext cx="3170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fld id="{6707D3C7-78A8-4755-9DA4-ED1342F64BE2}" type="slidenum">
              <a:rPr b="0" lang="es-ES_tradnl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271520" y="731880"/>
            <a:ext cx="4773600" cy="35798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74880" y="4555800"/>
            <a:ext cx="5365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3 Marcador de número de diapositiva"/>
          <p:cNvSpPr/>
          <p:nvPr/>
        </p:nvSpPr>
        <p:spPr>
          <a:xfrm>
            <a:off x="4145040" y="9112320"/>
            <a:ext cx="3170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fld id="{685567AD-12EB-4E36-B828-9A5308B0E060}" type="slidenum">
              <a:rPr b="0" lang="es-ES_tradnl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271520" y="731880"/>
            <a:ext cx="4773600" cy="35798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74880" y="4555800"/>
            <a:ext cx="5365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3 Marcador de número de diapositiva"/>
          <p:cNvSpPr/>
          <p:nvPr/>
        </p:nvSpPr>
        <p:spPr>
          <a:xfrm>
            <a:off x="4145040" y="9112320"/>
            <a:ext cx="3170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fld id="{5DD08E85-005E-44BC-ADCF-520FCFFB63D9}" type="slidenum">
              <a:rPr b="0" lang="es-ES_tradnl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4145040" y="9112320"/>
            <a:ext cx="3170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fld id="{D2C3902D-CBA8-4707-861D-247F211AB9FC}" type="slidenum">
              <a:rPr b="0" lang="es-ES_tradnl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271520" y="731880"/>
            <a:ext cx="4773600" cy="35798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74880" y="4555800"/>
            <a:ext cx="5365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4145040" y="9112320"/>
            <a:ext cx="3170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fld id="{F08EF2C8-F939-4F96-A86B-F1104B69F7B7}" type="slidenum">
              <a:rPr b="0" lang="es-ES_tradnl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271520" y="731880"/>
            <a:ext cx="4773600" cy="35798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74880" y="4555800"/>
            <a:ext cx="5365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4145040" y="9112320"/>
            <a:ext cx="3170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fld id="{DC54B598-4F54-4638-A7EE-8AE492F8B80B}" type="slidenum">
              <a:rPr b="0" lang="es-ES_tradnl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271520" y="731880"/>
            <a:ext cx="4773600" cy="35798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74880" y="4555800"/>
            <a:ext cx="5365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271520" y="731880"/>
            <a:ext cx="4773600" cy="35798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74880" y="4555800"/>
            <a:ext cx="5365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3 Marcador de número de diapositiva"/>
          <p:cNvSpPr/>
          <p:nvPr/>
        </p:nvSpPr>
        <p:spPr>
          <a:xfrm>
            <a:off x="4145040" y="9112320"/>
            <a:ext cx="3170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fld id="{9A2B5CFA-3F12-4440-B089-3E5A7DD6C15D}" type="slidenum">
              <a:rPr b="0" lang="es-ES_tradnl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271520" y="731880"/>
            <a:ext cx="4773600" cy="35798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74880" y="4555800"/>
            <a:ext cx="5365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3 Marcador de número de diapositiva"/>
          <p:cNvSpPr/>
          <p:nvPr/>
        </p:nvSpPr>
        <p:spPr>
          <a:xfrm>
            <a:off x="4145040" y="9112320"/>
            <a:ext cx="3170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fld id="{C7D8393F-F63B-4F46-B0A2-F919673E5462}" type="slidenum">
              <a:rPr b="0" lang="es-ES_tradnl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271520" y="731880"/>
            <a:ext cx="4773600" cy="35798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74880" y="4555800"/>
            <a:ext cx="5365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3 Marcador de número de diapositiva"/>
          <p:cNvSpPr/>
          <p:nvPr/>
        </p:nvSpPr>
        <p:spPr>
          <a:xfrm>
            <a:off x="4145040" y="9112320"/>
            <a:ext cx="3170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fld id="{B677B53B-7DDC-4D32-9058-4DF041651C08}" type="slidenum">
              <a:rPr b="0" lang="es-ES_tradnl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271520" y="731880"/>
            <a:ext cx="4773600" cy="35798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74880" y="4555800"/>
            <a:ext cx="5365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3 Marcador de número de diapositiva"/>
          <p:cNvSpPr/>
          <p:nvPr/>
        </p:nvSpPr>
        <p:spPr>
          <a:xfrm>
            <a:off x="4145040" y="9112320"/>
            <a:ext cx="3170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fld id="{E26668C4-B032-421E-9D13-6FE3640F179A}" type="slidenum">
              <a:rPr b="0" lang="es-ES_tradnl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271520" y="731880"/>
            <a:ext cx="4773600" cy="35798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74880" y="4555800"/>
            <a:ext cx="5365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3 Marcador de número de diapositiva"/>
          <p:cNvSpPr/>
          <p:nvPr/>
        </p:nvSpPr>
        <p:spPr>
          <a:xfrm>
            <a:off x="4145040" y="9112320"/>
            <a:ext cx="3170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fld id="{C97DD6D6-4101-4D40-B8D4-2C5D272BD530}" type="slidenum">
              <a:rPr b="0" lang="es-ES_tradnl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4145040" y="9112320"/>
            <a:ext cx="3170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fld id="{50B68123-9B9D-4643-89E7-49E464EF5B5C}" type="slidenum">
              <a:rPr b="0" lang="es-ES_tradnl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271520" y="731880"/>
            <a:ext cx="4773600" cy="35798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74880" y="4555800"/>
            <a:ext cx="5365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4145040" y="9112320"/>
            <a:ext cx="3170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fld id="{9A3F7203-3E55-46FF-ACCA-87DD7C9A45E4}" type="slidenum">
              <a:rPr b="0" lang="es-ES_tradnl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271520" y="731880"/>
            <a:ext cx="4773600" cy="35798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74880" y="4555800"/>
            <a:ext cx="5365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4145040" y="9112320"/>
            <a:ext cx="3170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fld id="{C730FDCE-45A5-4A9D-B214-56A769BB64FE}" type="slidenum">
              <a:rPr b="0" lang="es-ES_tradnl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271520" y="731880"/>
            <a:ext cx="4773600" cy="35798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74880" y="4555800"/>
            <a:ext cx="5365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4145040" y="9112320"/>
            <a:ext cx="3170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fld id="{24F0BEB3-7A7D-44F3-89F0-B1806E2B6F16}" type="slidenum">
              <a:rPr b="0" lang="es-ES_tradnl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271520" y="731880"/>
            <a:ext cx="4773600" cy="35798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74880" y="4555800"/>
            <a:ext cx="5365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3A830-9657-4D98-919E-E0E3A084A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3360A-576A-450A-9375-7534F43A4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0FF48-E3BA-4286-968C-FB99E0DAC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E2F13-DFF7-49F9-9D21-789F5E7B6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E4A7B-B7E0-4CCA-A951-F946C8B03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3A1DA-13C8-4514-9457-F8B7130EF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4108D-BC9D-412A-B07B-7D37DBDBE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A3EB1-7E17-43C2-AAA2-875A9E262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415EC-9B46-4583-920D-90926294F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20F2B-677C-4F07-AFF6-785C9D4B1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94E7F-FE80-4BF4-8C50-2C85B8E5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7C109-78CC-41B2-99E4-73754109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F5BBA-F09F-4663-BEA4-3DC50A18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97962-E82B-4D4A-BC29-0AFD1D47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142A3-97AD-4D13-937C-46EB6FDAD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47461-0AC6-4E30-B20F-B2C256565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F02B5-37CE-444F-B990-8F2B27334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7266C-FDA2-42B3-BC9D-ADC2EBB8C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43026-64D3-4ADC-B4E3-E48541B4E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4EE8E-8EF2-42E5-96CC-3271CE4B3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643C8-0782-4923-99BB-082194BE4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7F2DE-7D4D-4BE0-B4D0-D59D750A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C9D4E-DF3C-4C88-A396-536559C1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DD3A2-97E7-4A25-8719-270C707A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3D413-F0F4-4C9A-ABB0-B25202A690E8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C289D-807A-4027-A085-7DE899284760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rgio@internetelfaro.com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LATIGO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s://www.pmi.org/" TargetMode="Externa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918200" cy="46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6000" spc="-1" strike="noStrike">
                <a:solidFill>
                  <a:srgbClr val="ff9900"/>
                </a:solidFill>
                <a:latin typeface="Times New Roman"/>
              </a:rPr>
              <a:t>CURSO</a:t>
            </a:r>
            <a:br>
              <a:rPr sz="6000"/>
            </a:br>
            <a:r>
              <a:rPr b="1" lang="es-CR" sz="6000" spc="-1" strike="noStrike">
                <a:solidFill>
                  <a:srgbClr val="ff9900"/>
                </a:solidFill>
                <a:latin typeface="Times New Roman"/>
              </a:rPr>
              <a:t>Gerencia de Proyecto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340000" y="4149720"/>
            <a:ext cx="640080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ahoma"/>
              </a:rPr>
              <a:t>MSc. Sergio Iván Vega Mayorg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cc00"/>
                </a:solidFill>
                <a:uFillTx/>
                <a:latin typeface="Tahoma"/>
                <a:ea typeface="Tahoma"/>
                <a:hlinkClick r:id="rId1"/>
              </a:rPr>
              <a:t>sergio@internetelfaro.co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ahoma"/>
              </a:rPr>
              <a:t>Celular: 8321199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7"/>
          <p:cNvSpPr/>
          <p:nvPr/>
        </p:nvSpPr>
        <p:spPr>
          <a:xfrm>
            <a:off x="1332000" y="961920"/>
            <a:ext cx="6408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Tahoma"/>
                <a:ea typeface="Tahoma"/>
              </a:rPr>
              <a:t>GESTION INTEGRADORA DE LA GESTION DEL PORTAFOLIO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Imagen 3" descr=""/>
          <p:cNvPicPr/>
          <p:nvPr/>
        </p:nvPicPr>
        <p:blipFill>
          <a:blip r:embed="rId1"/>
          <a:stretch/>
        </p:blipFill>
        <p:spPr>
          <a:xfrm>
            <a:off x="900000" y="1697040"/>
            <a:ext cx="7704360" cy="419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609480" y="1268280"/>
            <a:ext cx="7925040" cy="38419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t">
            <a:noAutofit/>
          </a:bodyPr>
          <a:p>
            <a:pPr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ffffff"/>
                </a:solidFill>
                <a:latin typeface="Tahoma"/>
              </a:rPr>
              <a:t>Un conjunto de recursos y actividades relacionadas y coordinadas que, ejecutadas por un equipo humano definido, intenta alcanzar objetivos y resolver necesidades de una población concreta en un tiempo determinado y con un financiamiento específico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Object 5" descr=""/>
          <p:cNvPicPr/>
          <p:nvPr/>
        </p:nvPicPr>
        <p:blipFill>
          <a:blip r:embed="rId1"/>
          <a:stretch/>
        </p:blipFill>
        <p:spPr>
          <a:xfrm>
            <a:off x="7696080" y="228600"/>
            <a:ext cx="990720" cy="12952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7"/>
          <p:cNvSpPr/>
          <p:nvPr/>
        </p:nvSpPr>
        <p:spPr>
          <a:xfrm>
            <a:off x="762120" y="270000"/>
            <a:ext cx="70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9900"/>
                </a:solidFill>
                <a:latin typeface="Times New Roman"/>
              </a:rPr>
              <a:t>¿QUE ES PROYECTO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Garamond"/>
              </a:rPr>
              <a:t>¿QUÉ ES UN PROYECTO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Tahoma"/>
              </a:rPr>
              <a:t>Un proyecto, es una tarea innovadora, que involucra un conjunto ordenado de antecedentes, estudios y actividades planificadas y relacionadas entre sí que requieren la decisión sobre el uso de recursos, que apuntan a alcanzar objetivos definidos, efectuada en un cierto período, en una zona geográfica delimitada y para un grupo de beneficiarios, solucionando problemas, mejorando una situación o satisfaciendo una necesidad y de esta manera contribuir a los objetivos de desarrollo de un país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3"/>
          <p:cNvSpPr/>
          <p:nvPr/>
        </p:nvSpPr>
        <p:spPr>
          <a:xfrm>
            <a:off x="533520" y="1600200"/>
            <a:ext cx="8001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Productivos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Infraestructur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Sociales 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Fortalecimiento 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Institucion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Investigación 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Ecológicos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Object 5" descr=""/>
          <p:cNvPicPr/>
          <p:nvPr/>
        </p:nvPicPr>
        <p:blipFill>
          <a:blip r:embed="rId1"/>
          <a:stretch/>
        </p:blipFill>
        <p:spPr>
          <a:xfrm>
            <a:off x="3200400" y="3429000"/>
            <a:ext cx="1143000" cy="1082520"/>
          </a:xfrm>
          <a:prstGeom prst="rect">
            <a:avLst/>
          </a:prstGeom>
          <a:ln w="0">
            <a:noFill/>
          </a:ln>
        </p:spPr>
      </p:pic>
      <p:pic>
        <p:nvPicPr>
          <p:cNvPr id="133" name="Object 7" descr=""/>
          <p:cNvPicPr/>
          <p:nvPr/>
        </p:nvPicPr>
        <p:blipFill>
          <a:blip r:embed="rId2"/>
          <a:stretch/>
        </p:blipFill>
        <p:spPr>
          <a:xfrm>
            <a:off x="7772400" y="3809880"/>
            <a:ext cx="1371600" cy="679680"/>
          </a:xfrm>
          <a:prstGeom prst="rect">
            <a:avLst/>
          </a:prstGeom>
          <a:ln w="0">
            <a:noFill/>
          </a:ln>
        </p:spPr>
      </p:pic>
      <p:pic>
        <p:nvPicPr>
          <p:cNvPr id="134" name="Object 10" descr=""/>
          <p:cNvPicPr/>
          <p:nvPr/>
        </p:nvPicPr>
        <p:blipFill>
          <a:blip r:embed="rId3"/>
          <a:stretch/>
        </p:blipFill>
        <p:spPr>
          <a:xfrm>
            <a:off x="3124080" y="1981080"/>
            <a:ext cx="1143000" cy="1084320"/>
          </a:xfrm>
          <a:prstGeom prst="rect">
            <a:avLst/>
          </a:prstGeom>
          <a:ln w="0">
            <a:noFill/>
          </a:ln>
        </p:spPr>
      </p:pic>
      <p:pic>
        <p:nvPicPr>
          <p:cNvPr id="135" name="Object 11" descr=""/>
          <p:cNvPicPr/>
          <p:nvPr/>
        </p:nvPicPr>
        <p:blipFill>
          <a:blip r:embed="rId4"/>
          <a:stretch/>
        </p:blipFill>
        <p:spPr>
          <a:xfrm>
            <a:off x="3276720" y="4869000"/>
            <a:ext cx="1143000" cy="1054080"/>
          </a:xfrm>
          <a:prstGeom prst="rect">
            <a:avLst/>
          </a:prstGeom>
          <a:ln w="0">
            <a:noFill/>
          </a:ln>
        </p:spPr>
      </p:pic>
      <p:pic>
        <p:nvPicPr>
          <p:cNvPr id="136" name="Object 12" descr=""/>
          <p:cNvPicPr/>
          <p:nvPr/>
        </p:nvPicPr>
        <p:blipFill>
          <a:blip r:embed="rId5"/>
          <a:stretch/>
        </p:blipFill>
        <p:spPr>
          <a:xfrm>
            <a:off x="7924680" y="2057400"/>
            <a:ext cx="1067040" cy="855720"/>
          </a:xfrm>
          <a:prstGeom prst="rect">
            <a:avLst/>
          </a:prstGeom>
          <a:ln w="0">
            <a:noFill/>
          </a:ln>
        </p:spPr>
      </p:pic>
      <p:pic>
        <p:nvPicPr>
          <p:cNvPr id="137" name="Object 14" descr=""/>
          <p:cNvPicPr/>
          <p:nvPr/>
        </p:nvPicPr>
        <p:blipFill>
          <a:blip r:embed="rId6"/>
          <a:stretch/>
        </p:blipFill>
        <p:spPr>
          <a:xfrm>
            <a:off x="7848720" y="5105520"/>
            <a:ext cx="933480" cy="8920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5"/>
          <p:cNvSpPr/>
          <p:nvPr/>
        </p:nvSpPr>
        <p:spPr>
          <a:xfrm>
            <a:off x="762120" y="270000"/>
            <a:ext cx="7010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9900"/>
                </a:solidFill>
                <a:latin typeface="Times New Roman"/>
              </a:rPr>
              <a:t>¿CLASIFICACION DE PROYECTOS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800" spc="-1" strike="noStrike">
                <a:solidFill>
                  <a:srgbClr val="ff9900"/>
                </a:solidFill>
                <a:latin typeface="Tahoma"/>
              </a:rPr>
              <a:t>¿QUÉ NO ES PROYECTO?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963720"/>
            <a:ext cx="8229600" cy="49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ffffff"/>
                </a:solidFill>
                <a:latin typeface="Tahoma"/>
              </a:rPr>
              <a:t>Todas las actividades que se deriven de las funciones normales, operativas o rutinarias de una empresa, por ejemplo: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ffffff"/>
                </a:solidFill>
                <a:latin typeface="Tahoma"/>
              </a:rPr>
              <a:t>Mantenimiento preventivo o correctivo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ffffff"/>
                </a:solidFill>
                <a:latin typeface="Tahoma"/>
              </a:rPr>
              <a:t>Capacitación continua del capital humano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ffffff"/>
                </a:solidFill>
                <a:latin typeface="Tahoma"/>
              </a:rPr>
              <a:t>Servicio al cliente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ffffff"/>
                </a:solidFill>
                <a:latin typeface="Tahoma"/>
              </a:rPr>
              <a:t>Pintar un edificio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Tahoma"/>
              </a:rPr>
              <a:t>Aunque se hable de Gestión por proyectos, solo aplica su programación presupuesto y control, y no la preinversión.</a:t>
            </a:r>
            <a:r>
              <a:rPr b="0" lang="es-CR" sz="3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9900"/>
                </a:solidFill>
                <a:latin typeface="Tahoma"/>
                <a:ea typeface="Tahoma"/>
              </a:rPr>
              <a:t>Tipos de Proyectos en la Organización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  <a:ea typeface="Tahoma"/>
              </a:rPr>
              <a:t>Proyecto = Inversión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  <a:ea typeface="Tahoma"/>
              </a:rPr>
              <a:t>Sustitución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  <a:ea typeface="Tahoma"/>
              </a:rPr>
              <a:t>Renovación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  <a:ea typeface="Tahoma"/>
              </a:rPr>
              <a:t>Ampliación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  <a:ea typeface="Tahoma"/>
              </a:rPr>
              <a:t>Estratégico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84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Tahoma"/>
                <a:ea typeface="Tahoma"/>
              </a:rPr>
              <a:t>Análisis de Proyecto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57200" y="1052640"/>
          <a:ext cx="8229600" cy="5694120"/>
        </p:xfrm>
        <a:graphic>
          <a:graphicData uri="http://schemas.openxmlformats.org/drawingml/2006/table">
            <a:tbl>
              <a:tblPr/>
              <a:tblGrid>
                <a:gridCol w="585720"/>
                <a:gridCol w="4249800"/>
                <a:gridCol w="1655640"/>
                <a:gridCol w="173844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mbre de la ac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¿Es proyecto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bserv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Construir un hospi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Diseño de los planos de un hospi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Desarrollar un software de gestión empresarial (ERP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Realizar una investigación sobre enfermedades emergent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Mantenimiento del sistema de climatizació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Contratación de profesionales para reducir lista de espera en la clíni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Desarrollar un curso de Gestión de Proyectos a funcionarios del Área de Salu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Construir centro de investig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Atención de quejas de los client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Elaborar el plan estratégico de la empres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Creación de un observatorio estratég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Oval 30"/>
          <p:cNvSpPr/>
          <p:nvPr/>
        </p:nvSpPr>
        <p:spPr>
          <a:xfrm>
            <a:off x="3059280" y="3213000"/>
            <a:ext cx="3384360" cy="863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Oval 2"/>
          <p:cNvSpPr/>
          <p:nvPr/>
        </p:nvSpPr>
        <p:spPr>
          <a:xfrm>
            <a:off x="1020600" y="2025720"/>
            <a:ext cx="7107480" cy="3054240"/>
          </a:xfrm>
          <a:prstGeom prst="ellips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647640" y="2273400"/>
            <a:ext cx="7886880" cy="38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Rectangle 11"/>
          <p:cNvSpPr/>
          <p:nvPr/>
        </p:nvSpPr>
        <p:spPr>
          <a:xfrm>
            <a:off x="6400800" y="4343400"/>
            <a:ext cx="1828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e5e5ff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Rectangle 13"/>
          <p:cNvSpPr/>
          <p:nvPr/>
        </p:nvSpPr>
        <p:spPr>
          <a:xfrm>
            <a:off x="1600200" y="4572000"/>
            <a:ext cx="2216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e5e5ff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AutoShape 14"/>
          <p:cNvSpPr/>
          <p:nvPr/>
        </p:nvSpPr>
        <p:spPr>
          <a:xfrm>
            <a:off x="3132000" y="1744560"/>
            <a:ext cx="3186360" cy="785160"/>
          </a:xfrm>
          <a:prstGeom prst="roundRect">
            <a:avLst>
              <a:gd name="adj" fmla="val 12495"/>
            </a:avLst>
          </a:prstGeom>
          <a:solidFill>
            <a:srgbClr val="fafd00"/>
          </a:solidFill>
          <a:ln w="28440">
            <a:solidFill>
              <a:srgbClr val="0099cc"/>
            </a:solidFill>
            <a:miter/>
          </a:ln>
          <a:effectLst>
            <a:outerShdw dist="107932" dir="2700000" blurRad="0" rotWithShape="0">
              <a:srgbClr val="00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e5e5ff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514"/>
                </a:solidFill>
                <a:latin typeface="Arial"/>
              </a:rPr>
              <a:t>PROBLEMAS EXISTENTES Y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514"/>
                </a:solidFill>
                <a:latin typeface="Arial"/>
              </a:rPr>
              <a:t>ALTERNATIVAS DE SOLUCIÓN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514"/>
                </a:solidFill>
                <a:latin typeface="Arial"/>
              </a:rPr>
              <a:t>OPORTUNIDADES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Rectangle 15"/>
          <p:cNvSpPr/>
          <p:nvPr/>
        </p:nvSpPr>
        <p:spPr>
          <a:xfrm>
            <a:off x="596880" y="3384720"/>
            <a:ext cx="1771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e5e5ff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679320" y="2357280"/>
            <a:ext cx="1541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e5e5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3203640" y="1844640"/>
            <a:ext cx="3058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e5e5ff"/>
                </a:solidFill>
                <a:latin typeface="Arial"/>
              </a:rPr>
              <a:t>  </a:t>
            </a:r>
            <a:r>
              <a:rPr b="1" lang="es-ES_tradnl" sz="1400" spc="-1" strike="noStrike">
                <a:solidFill>
                  <a:srgbClr val="e5e5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752480" y="457200"/>
            <a:ext cx="573732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9900"/>
                </a:solidFill>
                <a:latin typeface="Arial"/>
              </a:rPr>
              <a:t>CICLO DE VIDA DE UN PROYECT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Rectangle 20"/>
          <p:cNvSpPr/>
          <p:nvPr/>
        </p:nvSpPr>
        <p:spPr>
          <a:xfrm>
            <a:off x="3059280" y="3276720"/>
            <a:ext cx="33130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514"/>
                </a:solidFill>
                <a:latin typeface="Tahoma"/>
              </a:rPr>
              <a:t>PLANIFICACION ORIENTADA A OBJETIVO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Line 21"/>
          <p:cNvSpPr/>
          <p:nvPr/>
        </p:nvSpPr>
        <p:spPr>
          <a:xfrm>
            <a:off x="7315200" y="5181480"/>
            <a:ext cx="0" cy="533520"/>
          </a:xfrm>
          <a:prstGeom prst="line">
            <a:avLst/>
          </a:prstGeom>
          <a:ln cap="rnd" w="57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Line 22"/>
          <p:cNvSpPr/>
          <p:nvPr/>
        </p:nvSpPr>
        <p:spPr>
          <a:xfrm flipH="1">
            <a:off x="6629040" y="5638680"/>
            <a:ext cx="685800" cy="0"/>
          </a:xfrm>
          <a:prstGeom prst="line">
            <a:avLst/>
          </a:prstGeom>
          <a:ln cap="rnd" w="57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Line 23"/>
          <p:cNvSpPr/>
          <p:nvPr/>
        </p:nvSpPr>
        <p:spPr>
          <a:xfrm flipH="1">
            <a:off x="3962160" y="5638680"/>
            <a:ext cx="533160" cy="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Line 24"/>
          <p:cNvSpPr/>
          <p:nvPr/>
        </p:nvSpPr>
        <p:spPr>
          <a:xfrm flipV="1">
            <a:off x="3962520" y="5105160"/>
            <a:ext cx="0" cy="53316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AutoShape 25"/>
          <p:cNvSpPr/>
          <p:nvPr/>
        </p:nvSpPr>
        <p:spPr>
          <a:xfrm>
            <a:off x="7164360" y="3048120"/>
            <a:ext cx="1979640" cy="555480"/>
          </a:xfrm>
          <a:prstGeom prst="roundRect">
            <a:avLst>
              <a:gd name="adj" fmla="val 12495"/>
            </a:avLst>
          </a:prstGeom>
          <a:solidFill>
            <a:srgbClr val="fafd00"/>
          </a:solidFill>
          <a:ln w="28440">
            <a:solidFill>
              <a:srgbClr val="0099cc"/>
            </a:solidFill>
            <a:miter/>
          </a:ln>
          <a:effectLst>
            <a:outerShdw dist="107932" dir="2700000" blurRad="0" rotWithShape="0">
              <a:srgbClr val="00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514"/>
                </a:solidFill>
                <a:latin typeface="Arial"/>
              </a:rPr>
              <a:t>PREINVERSION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514"/>
                </a:solidFill>
                <a:latin typeface="Arial"/>
              </a:rPr>
              <a:t>PREPARACION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AutoShape 26"/>
          <p:cNvSpPr/>
          <p:nvPr/>
        </p:nvSpPr>
        <p:spPr>
          <a:xfrm>
            <a:off x="6621480" y="4335480"/>
            <a:ext cx="1995480" cy="785160"/>
          </a:xfrm>
          <a:prstGeom prst="roundRect">
            <a:avLst>
              <a:gd name="adj" fmla="val 12495"/>
            </a:avLst>
          </a:prstGeom>
          <a:solidFill>
            <a:srgbClr val="fafd00"/>
          </a:solidFill>
          <a:ln w="28440">
            <a:solidFill>
              <a:srgbClr val="0099cc"/>
            </a:solidFill>
            <a:miter/>
          </a:ln>
          <a:effectLst>
            <a:outerShdw dist="107932" dir="2700000" blurRad="0" rotWithShape="0">
              <a:srgbClr val="00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514"/>
                </a:solidFill>
                <a:latin typeface="Arial"/>
              </a:rPr>
              <a:t>PROMOCION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514"/>
                </a:solidFill>
                <a:latin typeface="Arial"/>
              </a:rPr>
              <a:t>NEGOCIACION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514"/>
                </a:solidFill>
                <a:latin typeface="Arial"/>
              </a:rPr>
              <a:t>FINANCIMIENTO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AutoShape 27"/>
          <p:cNvSpPr/>
          <p:nvPr/>
        </p:nvSpPr>
        <p:spPr>
          <a:xfrm>
            <a:off x="4565520" y="5478480"/>
            <a:ext cx="2008440" cy="555480"/>
          </a:xfrm>
          <a:prstGeom prst="roundRect">
            <a:avLst>
              <a:gd name="adj" fmla="val 12495"/>
            </a:avLst>
          </a:prstGeom>
          <a:solidFill>
            <a:srgbClr val="fafd00"/>
          </a:solidFill>
          <a:ln w="28440">
            <a:solidFill>
              <a:srgbClr val="0099cc"/>
            </a:solidFill>
            <a:miter/>
          </a:ln>
          <a:effectLst>
            <a:outerShdw dist="107932" dir="2700000" blurRad="0" rotWithShape="0">
              <a:srgbClr val="00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514"/>
                </a:solidFill>
                <a:latin typeface="Arial"/>
              </a:rPr>
              <a:t>DISEÑOS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514"/>
                </a:solidFill>
                <a:latin typeface="Arial"/>
              </a:rPr>
              <a:t>FINALES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AutoShape 28"/>
          <p:cNvSpPr/>
          <p:nvPr/>
        </p:nvSpPr>
        <p:spPr>
          <a:xfrm>
            <a:off x="1600200" y="4648320"/>
            <a:ext cx="1979640" cy="555480"/>
          </a:xfrm>
          <a:prstGeom prst="roundRect">
            <a:avLst>
              <a:gd name="adj" fmla="val 12495"/>
            </a:avLst>
          </a:prstGeom>
          <a:solidFill>
            <a:srgbClr val="fafd00"/>
          </a:solidFill>
          <a:ln w="28440">
            <a:solidFill>
              <a:srgbClr val="0099cc"/>
            </a:solidFill>
            <a:miter/>
          </a:ln>
          <a:effectLst>
            <a:outerShdw dist="107932" dir="2700000" blurRad="0" rotWithShape="0">
              <a:srgbClr val="00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514"/>
                </a:solidFill>
                <a:latin typeface="Arial"/>
              </a:rPr>
              <a:t>INVERSION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514"/>
                </a:solidFill>
                <a:latin typeface="Arial"/>
              </a:rPr>
              <a:t>EJECUCION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AutoShape 29"/>
          <p:cNvSpPr/>
          <p:nvPr/>
        </p:nvSpPr>
        <p:spPr>
          <a:xfrm>
            <a:off x="544680" y="3122640"/>
            <a:ext cx="1730160" cy="785160"/>
          </a:xfrm>
          <a:prstGeom prst="roundRect">
            <a:avLst>
              <a:gd name="adj" fmla="val 12495"/>
            </a:avLst>
          </a:prstGeom>
          <a:solidFill>
            <a:srgbClr val="fafd00"/>
          </a:solidFill>
          <a:ln w="28440">
            <a:solidFill>
              <a:srgbClr val="0099cc"/>
            </a:solidFill>
            <a:miter/>
          </a:ln>
          <a:effectLst>
            <a:outerShdw dist="107932" dir="2700000" blurRad="0" rotWithShape="0">
              <a:srgbClr val="00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514"/>
                </a:solidFill>
                <a:latin typeface="Arial"/>
              </a:rPr>
              <a:t>OPERACIÓN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1620720" y="4572000"/>
            <a:ext cx="2024280" cy="72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2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>
                <a:solidFill>
                  <a:srgbClr val="ffffff"/>
                </a:solidFill>
                <a:latin typeface="Tahoma"/>
                <a:ea typeface="Tahoma"/>
              </a:rPr>
              <a:t>Ciclo de vida Iterativos e Incremental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7" name="Imagen 6" descr="Resultado de imagen para ciclo de vida iterativo"/>
          <p:cNvPicPr/>
          <p:nvPr/>
        </p:nvPicPr>
        <p:blipFill>
          <a:blip r:embed="rId1"/>
          <a:stretch/>
        </p:blipFill>
        <p:spPr>
          <a:xfrm>
            <a:off x="676440" y="1486080"/>
            <a:ext cx="7791120" cy="44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ffffff"/>
                </a:solidFill>
                <a:latin typeface="Tahoma"/>
                <a:ea typeface="Tahoma"/>
              </a:rPr>
              <a:t>Ciclo de vida adaptativo o ágil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Imagen 5" descr="Resultado de imagen para ciclo de vida adaptativo kanban"/>
          <p:cNvPicPr/>
          <p:nvPr/>
        </p:nvPicPr>
        <p:blipFill>
          <a:blip r:embed="rId1"/>
          <a:stretch/>
        </p:blipFill>
        <p:spPr>
          <a:xfrm>
            <a:off x="628560" y="1324080"/>
            <a:ext cx="803592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ffffff"/>
                </a:solidFill>
                <a:latin typeface="Tahoma"/>
                <a:ea typeface="Tahoma"/>
              </a:rPr>
              <a:t>Bienvenidos al curso de Gerencia de Proyecto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ffffff"/>
                </a:solidFill>
                <a:latin typeface="Tahoma"/>
                <a:ea typeface="Tahoma"/>
              </a:rPr>
              <a:t>Ciclo de vida adaptativo o ágil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2" name="Picture 2" descr="http://www.itnove.com/sites/default/files/pictures/scrum_ES.png"/>
          <p:cNvPicPr/>
          <p:nvPr/>
        </p:nvPicPr>
        <p:blipFill>
          <a:blip r:embed="rId1"/>
          <a:stretch/>
        </p:blipFill>
        <p:spPr>
          <a:xfrm>
            <a:off x="642960" y="1341360"/>
            <a:ext cx="804384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684360" y="941400"/>
            <a:ext cx="7920000" cy="4648320"/>
          </a:xfrm>
          <a:prstGeom prst="rect">
            <a:avLst/>
          </a:prstGeom>
          <a:ln w="0">
            <a:noFill/>
          </a:ln>
        </p:spPr>
      </p:pic>
      <p:sp>
        <p:nvSpPr>
          <p:cNvPr id="174" name="2 Rectángulo"/>
          <p:cNvSpPr/>
          <p:nvPr/>
        </p:nvSpPr>
        <p:spPr>
          <a:xfrm>
            <a:off x="971640" y="189000"/>
            <a:ext cx="7704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CICLO DE VIDA DE UN PROYECTO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PMI </a:t>
            </a:r>
            <a:r>
              <a:rPr b="1" lang="en-US" sz="24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s://www.pmi.org/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arbol2"/>
          <p:cNvPicPr/>
          <p:nvPr/>
        </p:nvPicPr>
        <p:blipFill>
          <a:blip r:embed="rId1"/>
          <a:stretch/>
        </p:blipFill>
        <p:spPr>
          <a:xfrm>
            <a:off x="1676520" y="533520"/>
            <a:ext cx="56386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arbol1"/>
          <p:cNvPicPr/>
          <p:nvPr/>
        </p:nvPicPr>
        <p:blipFill>
          <a:blip r:embed="rId1"/>
          <a:stretch/>
        </p:blipFill>
        <p:spPr>
          <a:xfrm>
            <a:off x="1957320" y="457200"/>
            <a:ext cx="48927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arbol3"/>
          <p:cNvPicPr/>
          <p:nvPr/>
        </p:nvPicPr>
        <p:blipFill>
          <a:blip r:embed="rId1"/>
          <a:stretch/>
        </p:blipFill>
        <p:spPr>
          <a:xfrm>
            <a:off x="2209680" y="457200"/>
            <a:ext cx="44816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arbol4"/>
          <p:cNvPicPr/>
          <p:nvPr/>
        </p:nvPicPr>
        <p:blipFill>
          <a:blip r:embed="rId1"/>
          <a:stretch/>
        </p:blipFill>
        <p:spPr>
          <a:xfrm>
            <a:off x="2368440" y="152280"/>
            <a:ext cx="425304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arbol5"/>
          <p:cNvPicPr/>
          <p:nvPr/>
        </p:nvPicPr>
        <p:blipFill>
          <a:blip r:embed="rId1"/>
          <a:stretch/>
        </p:blipFill>
        <p:spPr>
          <a:xfrm>
            <a:off x="2251080" y="152280"/>
            <a:ext cx="42102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000" spc="-1" strike="noStrike">
                <a:solidFill>
                  <a:srgbClr val="ffffff"/>
                </a:solidFill>
                <a:latin typeface="Tahoma"/>
              </a:rPr>
              <a:t>Decreto 34694-PLAN-H</a:t>
            </a:r>
            <a:br>
              <a:rPr sz="3000"/>
            </a:br>
            <a:r>
              <a:rPr b="1" lang="es-CR" sz="3000" spc="-1" strike="noStrike">
                <a:solidFill>
                  <a:srgbClr val="ffffff"/>
                </a:solidFill>
                <a:latin typeface="Tahoma"/>
              </a:rPr>
              <a:t>Arto.2: Sistema Nacional de Inversión Pública, SNIP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omprende el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conjunto de normas, principios, métodos, instrumentos y procedimientos que tienen por objetivo ordenar el proceso de la inversión en la Administración Pública Central y Descentralizada,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para poder concretar los proyectos de inversión más rentables para el país, desde el punto de vista del desarrollo económico, social y ambienta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9900"/>
                </a:solidFill>
                <a:latin typeface="Tahoma"/>
              </a:rPr>
              <a:t>EVALUACION</a:t>
            </a:r>
            <a:br>
              <a:rPr sz="4000"/>
            </a:br>
            <a:r>
              <a:rPr b="0" lang="es-ES" sz="4000" spc="-1" strike="noStrike">
                <a:solidFill>
                  <a:srgbClr val="ff9900"/>
                </a:solidFill>
                <a:latin typeface="Tahoma"/>
              </a:rPr>
              <a:t>ILP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 evaluación es una valoración y reflexión sistemática sobre el diseño, la ejecución, la eficiencia, la efectividad, los procesos, los resultados (o el impacto) de un proyecto en ejecución o completado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Ocurre básicamente durante todo el ciclo del proyecto y normalmente involucra a personas no directamente ligadas operacionalmente con el proyecto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 evaluación se efectúa durante todas las etapas del ciclo del proyecto, incluyendo varios años después de completada la ejecución, en el caso de evaluaciones de impacto y/o sustentabilidad. Para ser efectiva, la evaluación tiene que ser sistemática, igual que el monitoreo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9900"/>
                </a:solidFill>
                <a:latin typeface="Tahoma"/>
              </a:rPr>
              <a:t>Fuente: Metodología del marco lógico, para la planificación,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0" lang="es-ES" sz="1000" spc="-1" strike="noStrike">
                <a:solidFill>
                  <a:srgbClr val="ff9900"/>
                </a:solidFill>
                <a:latin typeface="Tahoma"/>
              </a:rPr>
              <a:t>el seguimiento y la evaluación de proyectos y programas. ILPES, julio 2005.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Oval 2"/>
          <p:cNvSpPr/>
          <p:nvPr/>
        </p:nvSpPr>
        <p:spPr>
          <a:xfrm>
            <a:off x="533520" y="1523880"/>
            <a:ext cx="8153280" cy="4191120"/>
          </a:xfrm>
          <a:prstGeom prst="ellips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AutoShape 3"/>
          <p:cNvSpPr/>
          <p:nvPr/>
        </p:nvSpPr>
        <p:spPr>
          <a:xfrm>
            <a:off x="7010280" y="1905120"/>
            <a:ext cx="1625760" cy="623880"/>
          </a:xfrm>
          <a:prstGeom prst="roundRect">
            <a:avLst>
              <a:gd name="adj" fmla="val 12495"/>
            </a:avLst>
          </a:prstGeom>
          <a:solidFill>
            <a:srgbClr val="003399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AutoShape 4"/>
          <p:cNvSpPr/>
          <p:nvPr/>
        </p:nvSpPr>
        <p:spPr>
          <a:xfrm>
            <a:off x="6858000" y="4343400"/>
            <a:ext cx="2006640" cy="787320"/>
          </a:xfrm>
          <a:prstGeom prst="roundRect">
            <a:avLst>
              <a:gd name="adj" fmla="val 12495"/>
            </a:avLst>
          </a:prstGeom>
          <a:solidFill>
            <a:srgbClr val="003399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AutoShape 5"/>
          <p:cNvSpPr/>
          <p:nvPr/>
        </p:nvSpPr>
        <p:spPr>
          <a:xfrm>
            <a:off x="5105520" y="5943600"/>
            <a:ext cx="2006640" cy="452520"/>
          </a:xfrm>
          <a:prstGeom prst="roundRect">
            <a:avLst>
              <a:gd name="adj" fmla="val 12495"/>
            </a:avLst>
          </a:prstGeom>
          <a:solidFill>
            <a:srgbClr val="003399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1035000" y="4643280"/>
            <a:ext cx="2718000" cy="876600"/>
          </a:xfrm>
          <a:prstGeom prst="roundRect">
            <a:avLst>
              <a:gd name="adj" fmla="val 12495"/>
            </a:avLst>
          </a:prstGeom>
          <a:solidFill>
            <a:srgbClr val="003399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AutoShape 7"/>
          <p:cNvSpPr/>
          <p:nvPr/>
        </p:nvSpPr>
        <p:spPr>
          <a:xfrm>
            <a:off x="2892600" y="1427040"/>
            <a:ext cx="3073320" cy="774720"/>
          </a:xfrm>
          <a:prstGeom prst="roundRect">
            <a:avLst>
              <a:gd name="adj" fmla="val 12495"/>
            </a:avLst>
          </a:prstGeom>
          <a:solidFill>
            <a:srgbClr val="003399"/>
          </a:solidFill>
          <a:ln w="50760">
            <a:solidFill>
              <a:srgbClr val="ffffff"/>
            </a:solidFill>
            <a:miter/>
          </a:ln>
          <a:effectLst>
            <a:outerShdw dist="107932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AutoShape 8"/>
          <p:cNvSpPr/>
          <p:nvPr/>
        </p:nvSpPr>
        <p:spPr>
          <a:xfrm>
            <a:off x="2209680" y="304920"/>
            <a:ext cx="4594320" cy="820440"/>
          </a:xfrm>
          <a:prstGeom prst="roundRect">
            <a:avLst>
              <a:gd name="adj" fmla="val 12495"/>
            </a:avLst>
          </a:prstGeom>
          <a:solidFill>
            <a:srgbClr val="003399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AutoShape 9"/>
          <p:cNvSpPr/>
          <p:nvPr/>
        </p:nvSpPr>
        <p:spPr>
          <a:xfrm>
            <a:off x="0" y="2421000"/>
            <a:ext cx="1778040" cy="614160"/>
          </a:xfrm>
          <a:prstGeom prst="roundRect">
            <a:avLst>
              <a:gd name="adj" fmla="val 12495"/>
            </a:avLst>
          </a:prstGeom>
          <a:solidFill>
            <a:srgbClr val="003399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Rectangle 10"/>
          <p:cNvSpPr/>
          <p:nvPr/>
        </p:nvSpPr>
        <p:spPr>
          <a:xfrm>
            <a:off x="7086600" y="2133720"/>
            <a:ext cx="1530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PREINVERSION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Rectangle 11"/>
          <p:cNvSpPr/>
          <p:nvPr/>
        </p:nvSpPr>
        <p:spPr>
          <a:xfrm>
            <a:off x="7086600" y="4343400"/>
            <a:ext cx="20574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PROMOCION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NEGOCIACION Y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INANCIAMIENTO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Rectangle 12"/>
          <p:cNvSpPr/>
          <p:nvPr/>
        </p:nvSpPr>
        <p:spPr>
          <a:xfrm>
            <a:off x="5409000" y="6019920"/>
            <a:ext cx="1440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DISEÑO FINAL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Rectangle 13"/>
          <p:cNvSpPr/>
          <p:nvPr/>
        </p:nvSpPr>
        <p:spPr>
          <a:xfrm>
            <a:off x="1035000" y="4853160"/>
            <a:ext cx="26226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ADMINISTRADOR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INVERSION  EJECUCION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Rectangle 14"/>
          <p:cNvSpPr/>
          <p:nvPr/>
        </p:nvSpPr>
        <p:spPr>
          <a:xfrm>
            <a:off x="304920" y="2590920"/>
            <a:ext cx="1523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OPERACION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Rectangle 15"/>
          <p:cNvSpPr/>
          <p:nvPr/>
        </p:nvSpPr>
        <p:spPr>
          <a:xfrm>
            <a:off x="3048120" y="1523880"/>
            <a:ext cx="28684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PROBLEMAS/NECESIDADES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OPORTUNIDADES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Rectangle 16"/>
          <p:cNvSpPr/>
          <p:nvPr/>
        </p:nvSpPr>
        <p:spPr>
          <a:xfrm>
            <a:off x="2268360" y="404640"/>
            <a:ext cx="4535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EVALUACION EN E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CICLO DE VIDA DE UN PROYECTO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Line 17"/>
          <p:cNvSpPr/>
          <p:nvPr/>
        </p:nvSpPr>
        <p:spPr>
          <a:xfrm>
            <a:off x="7543800" y="5181480"/>
            <a:ext cx="0" cy="9907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Line 18"/>
          <p:cNvSpPr/>
          <p:nvPr/>
        </p:nvSpPr>
        <p:spPr>
          <a:xfrm flipH="1">
            <a:off x="7162920" y="6172200"/>
            <a:ext cx="38088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Line 19"/>
          <p:cNvSpPr/>
          <p:nvPr/>
        </p:nvSpPr>
        <p:spPr>
          <a:xfrm flipH="1">
            <a:off x="4800240" y="6248520"/>
            <a:ext cx="304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Line 20"/>
          <p:cNvSpPr/>
          <p:nvPr/>
        </p:nvSpPr>
        <p:spPr>
          <a:xfrm flipV="1">
            <a:off x="4800600" y="5715000"/>
            <a:ext cx="0" cy="53352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Line 21"/>
          <p:cNvSpPr/>
          <p:nvPr/>
        </p:nvSpPr>
        <p:spPr>
          <a:xfrm flipV="1">
            <a:off x="2133720" y="1676520"/>
            <a:ext cx="761760" cy="30456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Line 22"/>
          <p:cNvSpPr/>
          <p:nvPr/>
        </p:nvSpPr>
        <p:spPr>
          <a:xfrm flipH="1" flipV="1">
            <a:off x="3047760" y="5562360"/>
            <a:ext cx="609480" cy="759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Line 23"/>
          <p:cNvSpPr/>
          <p:nvPr/>
        </p:nvSpPr>
        <p:spPr>
          <a:xfrm>
            <a:off x="6553080" y="1752480"/>
            <a:ext cx="533520" cy="2286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Line 24"/>
          <p:cNvSpPr/>
          <p:nvPr/>
        </p:nvSpPr>
        <p:spPr>
          <a:xfrm flipH="1">
            <a:off x="8457840" y="3962520"/>
            <a:ext cx="152280" cy="3808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Rectangle 25"/>
          <p:cNvSpPr/>
          <p:nvPr/>
        </p:nvSpPr>
        <p:spPr>
          <a:xfrm>
            <a:off x="3430440" y="422280"/>
            <a:ext cx="146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Line 26"/>
          <p:cNvSpPr/>
          <p:nvPr/>
        </p:nvSpPr>
        <p:spPr>
          <a:xfrm flipV="1">
            <a:off x="533520" y="3124080"/>
            <a:ext cx="75960" cy="45720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Oval 27"/>
          <p:cNvSpPr/>
          <p:nvPr/>
        </p:nvSpPr>
        <p:spPr>
          <a:xfrm>
            <a:off x="1828800" y="2590920"/>
            <a:ext cx="5486400" cy="205740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Oval 28"/>
          <p:cNvSpPr/>
          <p:nvPr/>
        </p:nvSpPr>
        <p:spPr>
          <a:xfrm>
            <a:off x="2987640" y="3200400"/>
            <a:ext cx="3336840" cy="733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" name="Line 29"/>
          <p:cNvSpPr/>
          <p:nvPr/>
        </p:nvSpPr>
        <p:spPr>
          <a:xfrm flipV="1">
            <a:off x="5029200" y="990720"/>
            <a:ext cx="274320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Line 30"/>
          <p:cNvSpPr/>
          <p:nvPr/>
        </p:nvSpPr>
        <p:spPr>
          <a:xfrm>
            <a:off x="4788000" y="4076640"/>
            <a:ext cx="3200400" cy="22100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Line 31"/>
          <p:cNvSpPr/>
          <p:nvPr/>
        </p:nvSpPr>
        <p:spPr>
          <a:xfrm flipH="1" flipV="1">
            <a:off x="1241280" y="726840"/>
            <a:ext cx="2035440" cy="26254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Text Box 32"/>
          <p:cNvSpPr/>
          <p:nvPr/>
        </p:nvSpPr>
        <p:spPr>
          <a:xfrm>
            <a:off x="6516720" y="35002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00"/>
                </a:solidFill>
                <a:latin typeface="Tahoma"/>
              </a:rPr>
              <a:t>EX-ANT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Line 33"/>
          <p:cNvSpPr/>
          <p:nvPr/>
        </p:nvSpPr>
        <p:spPr>
          <a:xfrm flipV="1">
            <a:off x="457200" y="3885840"/>
            <a:ext cx="2666880" cy="15238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Text Box 34"/>
          <p:cNvSpPr/>
          <p:nvPr/>
        </p:nvSpPr>
        <p:spPr>
          <a:xfrm>
            <a:off x="531720" y="161784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00"/>
                </a:solidFill>
                <a:latin typeface="Tahoma"/>
              </a:rPr>
              <a:t>EX-POS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Text Box 35"/>
          <p:cNvSpPr/>
          <p:nvPr/>
        </p:nvSpPr>
        <p:spPr>
          <a:xfrm>
            <a:off x="3203640" y="40435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00"/>
                </a:solidFill>
                <a:latin typeface="Tahoma"/>
              </a:rPr>
              <a:t>DURANT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Text Box 36"/>
          <p:cNvSpPr/>
          <p:nvPr/>
        </p:nvSpPr>
        <p:spPr>
          <a:xfrm>
            <a:off x="2975040" y="335772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514"/>
                </a:solidFill>
                <a:latin typeface="Times New Roman"/>
              </a:rPr>
              <a:t>PROCESO DE EVALUACIÓ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Text Box 37"/>
          <p:cNvSpPr/>
          <p:nvPr/>
        </p:nvSpPr>
        <p:spPr>
          <a:xfrm>
            <a:off x="7201080" y="2736720"/>
            <a:ext cx="1828800" cy="6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55000"/>
              </a:lnSpc>
              <a:spcBef>
                <a:spcPts val="876"/>
              </a:spcBef>
              <a:buClr>
                <a:srgbClr val="ffffff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Financiera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190440" indent="-190440">
              <a:lnSpc>
                <a:spcPct val="55000"/>
              </a:lnSpc>
              <a:spcBef>
                <a:spcPts val="876"/>
              </a:spcBef>
              <a:buClr>
                <a:srgbClr val="ffffff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Económica/Social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190440" indent="-190440">
              <a:lnSpc>
                <a:spcPct val="55000"/>
              </a:lnSpc>
              <a:spcBef>
                <a:spcPts val="876"/>
              </a:spcBef>
              <a:buClr>
                <a:srgbClr val="ffffff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Ambiental, EIA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Text Box 38"/>
          <p:cNvSpPr/>
          <p:nvPr/>
        </p:nvSpPr>
        <p:spPr>
          <a:xfrm>
            <a:off x="1295280" y="5715000"/>
            <a:ext cx="1295640" cy="8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55000"/>
              </a:lnSpc>
              <a:spcBef>
                <a:spcPts val="876"/>
              </a:spcBef>
              <a:buClr>
                <a:srgbClr val="ffffff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Físico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190440" indent="-190440">
              <a:lnSpc>
                <a:spcPct val="55000"/>
              </a:lnSpc>
              <a:spcBef>
                <a:spcPts val="876"/>
              </a:spcBef>
              <a:buClr>
                <a:srgbClr val="ffffff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Financiero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190440" indent="-190440">
              <a:lnSpc>
                <a:spcPct val="55000"/>
              </a:lnSpc>
              <a:spcBef>
                <a:spcPts val="876"/>
              </a:spcBef>
              <a:buClr>
                <a:srgbClr val="ffffff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Calidad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190440" indent="-190440">
              <a:lnSpc>
                <a:spcPct val="55000"/>
              </a:lnSpc>
              <a:spcBef>
                <a:spcPts val="876"/>
              </a:spcBef>
              <a:buClr>
                <a:srgbClr val="ffffff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Gestión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Text Box 39"/>
          <p:cNvSpPr/>
          <p:nvPr/>
        </p:nvSpPr>
        <p:spPr>
          <a:xfrm>
            <a:off x="1800360" y="2398680"/>
            <a:ext cx="1828800" cy="6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55000"/>
              </a:lnSpc>
              <a:spcBef>
                <a:spcPts val="876"/>
              </a:spcBef>
              <a:buClr>
                <a:srgbClr val="ffffff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Producto/Servicio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190440" indent="-190440">
              <a:lnSpc>
                <a:spcPct val="55000"/>
              </a:lnSpc>
              <a:spcBef>
                <a:spcPts val="876"/>
              </a:spcBef>
              <a:buClr>
                <a:srgbClr val="ffffff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Efectos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190440" indent="-190440">
              <a:lnSpc>
                <a:spcPct val="55000"/>
              </a:lnSpc>
              <a:spcBef>
                <a:spcPts val="876"/>
              </a:spcBef>
              <a:buClr>
                <a:srgbClr val="ffffff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Impactos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Garamond"/>
              </a:rPr>
              <a:t>OBJETIVOS GENERA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  <a:ea typeface="Tahoma"/>
              </a:rPr>
              <a:t>Adquirir el conocimiento sobre las metodologías y técnicas apropiadas para formular y gestionar los proyectos institucionales que les permita tomar las decisiones adecuadas en la asignación de recursos a los proyectos de inversión públic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9900"/>
                </a:solidFill>
                <a:latin typeface="Garamond"/>
              </a:rPr>
              <a:t>LA FASE DE PREINVERSION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9900"/>
                </a:solidFill>
                <a:latin typeface="Garamond"/>
              </a:rPr>
              <a:t>QUE ES LA ETAPA DE PREINVERS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s la fase donde se elabora el documento de proyecto, en esta etapa se realizan todos los estudios y estimaciones para determinar la factibilidad y viabilidad de los proyect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just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nsiste en identificar los proyectos, formularlos, evaluarlos y seleccionarlos desde el punto de vista del mercado, técnico, financiero, económico, social y ambiental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990720" y="609480"/>
            <a:ext cx="716256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a886e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3328920" y="3070080"/>
            <a:ext cx="2082960" cy="2303640"/>
          </a:xfrm>
          <a:prstGeom prst="rect">
            <a:avLst/>
          </a:prstGeom>
          <a:solidFill>
            <a:srgbClr val="fafd00"/>
          </a:solidFill>
          <a:ln w="507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1042920" y="260280"/>
            <a:ext cx="7061400" cy="1092240"/>
          </a:xfrm>
          <a:prstGeom prst="rect">
            <a:avLst/>
          </a:prstGeom>
          <a:solidFill>
            <a:srgbClr val="fafd00"/>
          </a:solidFill>
          <a:ln w="50760">
            <a:solidFill>
              <a:srgbClr val="ffffff"/>
            </a:solidFill>
            <a:miter/>
          </a:ln>
          <a:effectLst>
            <a:outerShdw dist="107932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c0128"/>
                </a:solidFill>
                <a:latin typeface="Arial"/>
              </a:rPr>
              <a:t>ETAPA DE PREINVERSIÓ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611280" y="1844640"/>
            <a:ext cx="1473120" cy="291960"/>
          </a:xfrm>
          <a:prstGeom prst="rect">
            <a:avLst/>
          </a:prstGeom>
          <a:solidFill>
            <a:srgbClr val="fafd0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c0128"/>
                </a:solidFill>
                <a:latin typeface="Arial"/>
              </a:rPr>
              <a:t>INSUMOS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3492360" y="1844640"/>
            <a:ext cx="1625760" cy="349200"/>
          </a:xfrm>
          <a:prstGeom prst="rect">
            <a:avLst/>
          </a:prstGeom>
          <a:solidFill>
            <a:srgbClr val="fafd0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c0128"/>
                </a:solidFill>
                <a:latin typeface="Arial"/>
              </a:rPr>
              <a:t>PROCESOS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6286680" y="1882800"/>
            <a:ext cx="1879560" cy="368280"/>
          </a:xfrm>
          <a:prstGeom prst="rect">
            <a:avLst/>
          </a:prstGeom>
          <a:solidFill>
            <a:srgbClr val="fafd0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c0128"/>
                </a:solidFill>
                <a:latin typeface="Arial"/>
              </a:rPr>
              <a:t>PRODUCTOS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Line 8"/>
          <p:cNvSpPr/>
          <p:nvPr/>
        </p:nvSpPr>
        <p:spPr>
          <a:xfrm>
            <a:off x="2556000" y="1989000"/>
            <a:ext cx="787320" cy="0"/>
          </a:xfrm>
          <a:prstGeom prst="line">
            <a:avLst/>
          </a:prstGeom>
          <a:ln w="127080">
            <a:solidFill>
              <a:srgbClr val="e5e5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Line 9"/>
          <p:cNvSpPr/>
          <p:nvPr/>
        </p:nvSpPr>
        <p:spPr>
          <a:xfrm>
            <a:off x="5308560" y="2048040"/>
            <a:ext cx="889200" cy="0"/>
          </a:xfrm>
          <a:prstGeom prst="line">
            <a:avLst/>
          </a:prstGeom>
          <a:ln w="127080">
            <a:solidFill>
              <a:srgbClr val="e5e5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Rectangle 10"/>
          <p:cNvSpPr/>
          <p:nvPr/>
        </p:nvSpPr>
        <p:spPr>
          <a:xfrm>
            <a:off x="3511440" y="3213000"/>
            <a:ext cx="292320" cy="1981440"/>
          </a:xfrm>
          <a:prstGeom prst="rect">
            <a:avLst/>
          </a:prstGeom>
          <a:solidFill>
            <a:srgbClr val="00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Rectangle 11"/>
          <p:cNvSpPr/>
          <p:nvPr/>
        </p:nvSpPr>
        <p:spPr>
          <a:xfrm>
            <a:off x="3924360" y="3213000"/>
            <a:ext cx="360360" cy="1944720"/>
          </a:xfrm>
          <a:prstGeom prst="rect">
            <a:avLst/>
          </a:prstGeom>
          <a:solidFill>
            <a:srgbClr val="00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5e5ff"/>
                </a:solidFill>
                <a:latin typeface="Arial"/>
              </a:rPr>
              <a:t>II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Rectangle 12"/>
          <p:cNvSpPr/>
          <p:nvPr/>
        </p:nvSpPr>
        <p:spPr>
          <a:xfrm>
            <a:off x="4427640" y="3213000"/>
            <a:ext cx="288720" cy="1981440"/>
          </a:xfrm>
          <a:prstGeom prst="rect">
            <a:avLst/>
          </a:prstGeom>
          <a:solidFill>
            <a:srgbClr val="00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III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Rectangle 13"/>
          <p:cNvSpPr/>
          <p:nvPr/>
        </p:nvSpPr>
        <p:spPr>
          <a:xfrm>
            <a:off x="4932360" y="3213000"/>
            <a:ext cx="318960" cy="1981440"/>
          </a:xfrm>
          <a:prstGeom prst="rect">
            <a:avLst/>
          </a:prstGeom>
          <a:solidFill>
            <a:srgbClr val="00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IV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Rectangle 14"/>
          <p:cNvSpPr/>
          <p:nvPr/>
        </p:nvSpPr>
        <p:spPr>
          <a:xfrm>
            <a:off x="127080" y="3054240"/>
            <a:ext cx="2663640" cy="2920680"/>
          </a:xfrm>
          <a:prstGeom prst="rect">
            <a:avLst/>
          </a:prstGeom>
          <a:solidFill>
            <a:srgbClr val="003399"/>
          </a:solidFill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5400">
              <a:lnSpc>
                <a:spcPct val="100000"/>
              </a:lnSpc>
              <a:tabLst>
                <a:tab algn="l" pos="0"/>
                <a:tab algn="ctr" pos="66672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95400">
              <a:lnSpc>
                <a:spcPct val="100000"/>
              </a:lnSpc>
              <a:tabLst>
                <a:tab algn="l" pos="0"/>
                <a:tab algn="ctr" pos="66672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*PLAN ESTRATEGICO O DESARROLLO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95400">
              <a:lnSpc>
                <a:spcPct val="100000"/>
              </a:lnSpc>
              <a:tabLst>
                <a:tab algn="l" pos="0"/>
                <a:tab algn="ctr" pos="66672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*POLITICA ECONOMICA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95400">
              <a:lnSpc>
                <a:spcPct val="100000"/>
              </a:lnSpc>
              <a:tabLst>
                <a:tab algn="l" pos="0"/>
                <a:tab algn="ctr" pos="66672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*NECESIDADE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95400">
              <a:lnSpc>
                <a:spcPct val="100000"/>
              </a:lnSpc>
              <a:tabLst>
                <a:tab algn="l" pos="0"/>
                <a:tab algn="ctr" pos="66672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*PROBLEMA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95400">
              <a:lnSpc>
                <a:spcPct val="100000"/>
              </a:lnSpc>
              <a:tabLst>
                <a:tab algn="l" pos="0"/>
                <a:tab algn="ctr" pos="66672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*DIAGNOSTICO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95400">
              <a:lnSpc>
                <a:spcPct val="100000"/>
              </a:lnSpc>
              <a:tabLst>
                <a:tab algn="l" pos="0"/>
                <a:tab algn="ctr" pos="66672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*METODOLOGIA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95400">
              <a:lnSpc>
                <a:spcPct val="100000"/>
              </a:lnSpc>
              <a:tabLst>
                <a:tab algn="l" pos="0"/>
                <a:tab algn="ctr" pos="66672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-FORMULAR y EVALUAR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95400">
              <a:lnSpc>
                <a:spcPct val="100000"/>
              </a:lnSpc>
              <a:tabLst>
                <a:tab algn="l" pos="0"/>
                <a:tab algn="ctr" pos="66672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*RECURSOS HUMANO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95400">
              <a:lnSpc>
                <a:spcPct val="100000"/>
              </a:lnSpc>
              <a:tabLst>
                <a:tab algn="l" pos="0"/>
                <a:tab algn="ctr" pos="66672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CAPACITADO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95400">
              <a:lnSpc>
                <a:spcPct val="100000"/>
              </a:lnSpc>
              <a:tabLst>
                <a:tab algn="l" pos="0"/>
                <a:tab algn="ctr" pos="66672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*INFORMACIO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6407280" y="2997360"/>
            <a:ext cx="2125440" cy="3168360"/>
          </a:xfrm>
          <a:prstGeom prst="rect">
            <a:avLst/>
          </a:prstGeom>
          <a:solidFill>
            <a:srgbClr val="003399"/>
          </a:solidFill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DOCUMENTOS D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PROYECTO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DISTINTOS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NIVELES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*IDENTIFICACIÓ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*PERFIL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*PREFACTIBILIDAD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*FACTIBILIDAD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*DISEÑO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AutoShape 16"/>
          <p:cNvSpPr/>
          <p:nvPr/>
        </p:nvSpPr>
        <p:spPr>
          <a:xfrm flipH="1" rot="16200000">
            <a:off x="1104840" y="2216160"/>
            <a:ext cx="330480" cy="5968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AutoShape 17"/>
          <p:cNvSpPr/>
          <p:nvPr/>
        </p:nvSpPr>
        <p:spPr>
          <a:xfrm flipH="1" rot="16200000">
            <a:off x="4172040" y="2316240"/>
            <a:ext cx="387360" cy="5968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1" name="AutoShape 18"/>
          <p:cNvSpPr/>
          <p:nvPr/>
        </p:nvSpPr>
        <p:spPr>
          <a:xfrm flipH="1" rot="16200000">
            <a:off x="7145640" y="2295360"/>
            <a:ext cx="387360" cy="49500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AutoShape 19"/>
          <p:cNvSpPr/>
          <p:nvPr/>
        </p:nvSpPr>
        <p:spPr>
          <a:xfrm>
            <a:off x="2700360" y="4365720"/>
            <a:ext cx="596880" cy="215640"/>
          </a:xfrm>
          <a:prstGeom prst="rightArrow">
            <a:avLst>
              <a:gd name="adj1" fmla="val 50000"/>
              <a:gd name="adj2" fmla="val 138410"/>
            </a:avLst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AutoShape 20"/>
          <p:cNvSpPr/>
          <p:nvPr/>
        </p:nvSpPr>
        <p:spPr>
          <a:xfrm>
            <a:off x="5695920" y="4406760"/>
            <a:ext cx="596880" cy="216000"/>
          </a:xfrm>
          <a:prstGeom prst="rightArrow">
            <a:avLst>
              <a:gd name="adj1" fmla="val 50000"/>
              <a:gd name="adj2" fmla="val 138179"/>
            </a:avLst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9900"/>
                </a:solidFill>
                <a:latin typeface="Tahoma"/>
              </a:rPr>
              <a:t>CONTENIDO DEL DOCUMENTO DE IDENTIFICACION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51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ANTECEDEN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DEFINIR EL PROBLEMA (No definir carencia) Como relación causa-efecto Marco lógic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ALTERNATIVAS DE SOLUC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SELECCIÓN DE LA MEJOR ALTERNATIV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OBJETIVOS DEL PROYECT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RECURSOS POSIBLES O DISPONIB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BENEFICIARI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JUSTIFICACION (EL PROYECTO EN EL PLAN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00"/>
                </a:solidFill>
                <a:latin typeface="Tahoma"/>
                <a:ea typeface="Tahoma"/>
              </a:rPr>
              <a:t>CONTENIDO DEL DOCUMENTO DE PROYECTO</a:t>
            </a:r>
            <a:r>
              <a:rPr b="1" lang="es-ES_tradnl" sz="3200" spc="-1" strike="noStrike">
                <a:solidFill>
                  <a:srgbClr val="ff9900"/>
                </a:solidFill>
                <a:latin typeface="Tahoma"/>
                <a:ea typeface="Tahoma"/>
              </a:rPr>
              <a:t> </a:t>
            </a:r>
            <a:br>
              <a:rPr sz="3200"/>
            </a:br>
            <a:r>
              <a:rPr b="1" lang="es-ES_tradnl" sz="2000" spc="-1" strike="noStrike">
                <a:solidFill>
                  <a:srgbClr val="ff9900"/>
                </a:solidFill>
                <a:latin typeface="Tahoma"/>
                <a:ea typeface="Tahoma"/>
              </a:rPr>
              <a:t>PERFIL, PREFACTIBILIDAD O FACTIBILIDAD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ahoma"/>
              </a:rPr>
              <a:t>Ficha Técnica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ahoma"/>
              </a:rPr>
              <a:t>Capitulo 1: Identificación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ahoma"/>
              </a:rPr>
              <a:t>Capítulo 2: Estudio de Mercado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ahoma"/>
              </a:rPr>
              <a:t>Capítulo 3: Estudio Técnico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ahoma"/>
              </a:rPr>
              <a:t>Capítulo 4: Evaluación Financiera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ahoma"/>
              </a:rPr>
              <a:t>Capítulo 5: Evaluación Económica y Social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ahoma"/>
              </a:rPr>
              <a:t>Capítulo 6: Evaluación de Impacto Ambiental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ahoma"/>
              </a:rPr>
              <a:t>Conclusiones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9900"/>
                </a:solidFill>
                <a:latin typeface="Garamond"/>
              </a:rPr>
              <a:t>Diferencias en los Niveles de Estudios de Proyecto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Información mayormente secundaria en el perfil y primaria en prefactibilidad y factibilida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Nivel de profundidad bajo en las variables en el perfil y alto en factibilida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Metodologías básicas en perfil y avanzadas en prefactibilidad y factibilida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l perfil contiene como máximo hasta el estudio técnico y el de prefactibilidad y factibilidad hasta impacto ambiental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l equipo de trabajo para elaborar el estudio de factibilidad debe ser multidisciplinari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9900"/>
                </a:solidFill>
                <a:latin typeface="Tahoma"/>
                <a:ea typeface="Tahoma"/>
              </a:rPr>
              <a:t>Toma de Decisiones en la</a:t>
            </a:r>
            <a:br>
              <a:rPr sz="4000"/>
            </a:br>
            <a:r>
              <a:rPr b="1" lang="es-ES" sz="4000" spc="-1" strike="noStrike">
                <a:solidFill>
                  <a:srgbClr val="ff9900"/>
                </a:solidFill>
                <a:latin typeface="Tahoma"/>
                <a:ea typeface="Tahoma"/>
              </a:rPr>
              <a:t>Preinversió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2" name="Picture 4" descr="Dibujo"/>
          <p:cNvPicPr/>
          <p:nvPr/>
        </p:nvPicPr>
        <p:blipFill>
          <a:blip r:embed="rId1"/>
          <a:stretch/>
        </p:blipFill>
        <p:spPr>
          <a:xfrm>
            <a:off x="468360" y="1700280"/>
            <a:ext cx="8351640" cy="4753080"/>
          </a:xfrm>
          <a:prstGeom prst="rect">
            <a:avLst/>
          </a:prstGeom>
          <a:ln w="0">
            <a:noFill/>
          </a:ln>
        </p:spPr>
      </p:pic>
      <p:sp>
        <p:nvSpPr>
          <p:cNvPr id="253" name="Line 5"/>
          <p:cNvSpPr/>
          <p:nvPr/>
        </p:nvSpPr>
        <p:spPr>
          <a:xfrm flipH="1">
            <a:off x="1618920" y="2924280"/>
            <a:ext cx="2305080" cy="0"/>
          </a:xfrm>
          <a:prstGeom prst="line">
            <a:avLst/>
          </a:prstGeom>
          <a:ln w="2844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9900"/>
                </a:solidFill>
                <a:latin typeface="Tahoma"/>
                <a:ea typeface="Tahoma"/>
              </a:rPr>
              <a:t>Incertidumbre Vs Nivel de Estudio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55" name="Object 3"/>
          <p:cNvGraphicFramePr/>
          <p:nvPr/>
        </p:nvGraphicFramePr>
        <p:xfrm>
          <a:off x="457200" y="2516040"/>
          <a:ext cx="4038480" cy="269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516040"/>
                    <a:ext cx="4038480" cy="26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7" name="Picture 4" descr="Dibujo"/>
          <p:cNvPicPr/>
          <p:nvPr/>
        </p:nvPicPr>
        <p:blipFill>
          <a:blip r:embed="rId3"/>
          <a:stretch/>
        </p:blipFill>
        <p:spPr>
          <a:xfrm>
            <a:off x="250920" y="1268280"/>
            <a:ext cx="858528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Times New Roman"/>
              </a:rPr>
              <a:t>OBJETIVOS ESPECIFICO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4452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ffffff"/>
                </a:solidFill>
                <a:latin typeface="Tahoma"/>
                <a:ea typeface="Tahoma"/>
              </a:rPr>
              <a:t>Conocer las etapas del ciclo de vida de un proyecto de desarrollo y los productos de cada una de las fases.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ffffff"/>
                </a:solidFill>
                <a:latin typeface="Tahoma"/>
                <a:ea typeface="Tahoma"/>
              </a:rPr>
              <a:t>Conocer el contenido que debe tener el estudio de un proyecto, en sus diferentes niveles: idea, perfil, prefactibilidad y factibilidad.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ffffff"/>
                </a:solidFill>
                <a:latin typeface="Tahoma"/>
                <a:ea typeface="Tahoma"/>
              </a:rPr>
              <a:t>Conocer los métodos y herramientas gerenciales necesarias para planificar, programar, organizar y controlar la ejecución de los proyectos bajo los principios de las mejores prácticas en la gestión de proyectos acotados bajo estándares internacionales.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1988640"/>
            <a:ext cx="7772400" cy="238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9900"/>
                </a:solidFill>
                <a:latin typeface="Tahoma"/>
                <a:ea typeface="Tahoma"/>
              </a:rPr>
              <a:t>TEMA I:</a:t>
            </a:r>
            <a:br>
              <a:rPr sz="5400"/>
            </a:br>
            <a:br>
              <a:rPr sz="5400"/>
            </a:br>
            <a:r>
              <a:rPr b="1" lang="es-MX" sz="4000" spc="-1" strike="noStrike">
                <a:solidFill>
                  <a:srgbClr val="ff9900"/>
                </a:solidFill>
                <a:latin typeface="Tahoma"/>
                <a:ea typeface="Tahoma"/>
              </a:rPr>
              <a:t>EL CICLO DE VIDA DE LOS PROYECTOS DE DESARROLLO</a:t>
            </a:r>
            <a:r>
              <a:rPr b="1" lang="es-ES" sz="6000" spc="-1" strike="noStrike">
                <a:solidFill>
                  <a:srgbClr val="ff9900"/>
                </a:solidFill>
                <a:latin typeface="Tahoma"/>
                <a:ea typeface="Tahoma"/>
              </a:rPr>
              <a:t> 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9900"/>
                </a:solidFill>
                <a:latin typeface="Tahoma"/>
              </a:rPr>
              <a:t>¿QUE ES PLANIFICACION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ahoma"/>
              </a:rPr>
              <a:t>Definir anticipadamente cuáles son las acciones que se deben tomar para alcanzar los objetivos deseados, haciendo un uso racional de lo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00"/>
                </a:solidFill>
                <a:latin typeface="Tahoma"/>
              </a:rPr>
              <a:t>JERARQUIA DE LA PLANIFICAC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cc"/>
                </a:solidFill>
                <a:latin typeface="Tahoma"/>
              </a:rPr>
              <a:t>Nivel 1: El plan de desarrollo (Plan de estratégico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3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cc"/>
                </a:solidFill>
                <a:latin typeface="Tahoma"/>
              </a:rPr>
              <a:t>Nivel 2: Programa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3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cc"/>
                </a:solidFill>
                <a:latin typeface="Tahoma"/>
              </a:rPr>
              <a:t>Nivel 3: Proyecto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9900"/>
                </a:solidFill>
                <a:latin typeface="Tahoma"/>
              </a:rPr>
              <a:t>¿QUE ES EL PLAN</a:t>
            </a:r>
            <a:br>
              <a:rPr sz="4000"/>
            </a:br>
            <a:r>
              <a:rPr b="0" lang="es-ES_tradnl" sz="4000" spc="-1" strike="noStrike">
                <a:solidFill>
                  <a:srgbClr val="ff9900"/>
                </a:solidFill>
                <a:latin typeface="Tahoma"/>
              </a:rPr>
              <a:t>DE DESARROLLO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17334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ahoma"/>
              </a:rPr>
              <a:t>Son los resultados del proceso de planificación. Es el documento que fundamenta y en el cual se deja constancia de las decisiones tomadas durante el proceso de planificaci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38088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normAutofit/>
          </a:bodyPr>
          <a:p>
            <a:pPr algn="just">
              <a:lnSpc>
                <a:spcPct val="110000"/>
              </a:lnSpc>
              <a:buClr>
                <a:srgbClr val="ffffff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on los instrumentos que se destinan al cumplimiento de los objetivos y metas trazados en los planes de desarrollo dentro de un marco financiero y de tiempo. Su implementación se realiza mediante los proyect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10000"/>
              </a:lnSpc>
              <a:buClr>
                <a:srgbClr val="ffffff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os programas de desarrollo son un conjunto de proyectos de naturaleza afí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762120" y="27000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9900"/>
                </a:solidFill>
                <a:latin typeface="Times New Roman"/>
              </a:rPr>
              <a:t>¿QUE ES PROGRAMA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2T07:07:42Z</dcterms:created>
  <dc:creator>SERGIO IVAN VEGA MAYORGA</dc:creator>
  <dc:description/>
  <dc:language>en-US</dc:language>
  <cp:lastModifiedBy>Sergio Ivan Vega Mayorga</cp:lastModifiedBy>
  <cp:lastPrinted>1998-01-12T10:29:50Z</cp:lastPrinted>
  <dcterms:modified xsi:type="dcterms:W3CDTF">2021-02-27T17:23:58Z</dcterms:modified>
  <cp:revision>151</cp:revision>
  <dc:subject/>
  <dc:title>Definición de Proyectos</dc:title>
</cp:coreProperties>
</file>