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LATIGO.WAV" ContentType="audio/x-wav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E162-7FC9-42E0-9D26-DAC0EB8323EC}" type="slidenum">
              <a:rPr b="0" lang="es-C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6011-23F1-473F-B342-C3F539A1AE04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06C4-EC29-4843-8E66-30A8C4705C61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1EC7-BEF1-4A73-9138-8715E85289F2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62D8-0AF0-484A-8203-F8871DF9CAAF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070E-C3FD-4DE8-A903-8C1DC9EAD31F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41F-3162-4513-A3C5-075061FB9E97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B14-C5EB-435F-9936-24C8015D8968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4808-1378-4D97-B7AF-2A96A4AB75A8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8599-7D74-4BF2-8313-31191D926A27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9A48-D175-4029-B04B-DBBE0B80FCE4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6128-5021-4BFC-957B-906103A3B95B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0975-2F92-44E0-98AE-3FE1A36A8BA2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C7C4-D573-4358-B128-B82CD4B6B4E7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7987-5F8C-489B-B641-3C1CBC0DFDDA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E451-B28B-4447-A232-44EB45FB2A2D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DEF6-AC53-4830-824F-44E87B27919C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9F6-B535-4E9E-908E-D784D7595C47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67AE-30E4-42DB-BCFF-ED8A0B19BA27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E10B-8F81-4742-8D0B-A1F7B79992AE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982F-6C36-4C18-8DAA-B89943539141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54A5-F017-4BF7-91FE-F630A2D03BC3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6656-5310-4D36-9A43-D45A880247D0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134C-D7CD-4CF5-9144-3B44CCAAE255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DCDE-9F6B-43CF-A21E-8D2B4B0159C6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73DA-5EF9-4F32-9487-85BA7A6BB334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0B3-F1D7-4A8B-B8E7-4EC69E89E980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088E-C6FC-4590-8161-A56ABF284D2C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96A0-F43A-4C54-B5C5-3A356DBD671E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EE59-DE1F-40D7-97B5-1B110017668F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D2FE-86E7-4760-885D-ACBFA6F59A34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5365-CB46-4D03-935A-5025652FC9A3}" type="slidenum">
              <a:rPr b="0" lang="es-C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86E-1B6F-4199-9265-88452BBA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872-BEBA-48C2-B69A-A95ED8AB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663-DB3F-4CAB-B288-438E6C18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E7F-BD27-4C00-ACA8-4D0D5CB1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EB8E-C84A-465D-9644-4606F1F8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396E-8487-4C52-B6D1-4E315589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4490-17D8-497D-8E28-977F8150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6366-27B0-4930-9BBA-7BF0635F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5F90-459B-4445-BB72-03E87AFB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B3DC-9E41-4FEC-8278-E8DB8FFF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143D-B614-4EE3-8FCC-43BAA712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164-57ED-4781-9CA6-3C5305F0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65A7-A3BA-405F-913E-034E39E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E5F1-3BEA-4867-8EAC-DE33695A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7E8C-DBDE-4D3A-BB22-6BFBF61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0A8B-C45B-4981-9798-93A2874B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8822-4876-433E-8D4D-FBBCF7EF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370-A535-42FF-A3DB-98160336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7E0-4C2B-4386-9950-96505128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C34-FAB5-4AB0-901A-79C6E46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201-EBFC-4B27-B566-7F133EBC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070-B67D-4C7D-97B0-C9939E7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08A-7769-400E-85AE-7516DA3F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67D-C341-4A67-9506-C1C56809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4B8C-771D-4C7D-8D0F-5189B947E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FBA7-E82F-406E-8758-9A478FF1A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eolica"/>
          <p:cNvPicPr/>
          <p:nvPr/>
        </p:nvPicPr>
        <p:blipFill>
          <a:blip r:embed="rId1"/>
          <a:stretch/>
        </p:blipFill>
        <p:spPr>
          <a:xfrm>
            <a:off x="5364000" y="189000"/>
            <a:ext cx="3527640" cy="2363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geotermia"/>
          <p:cNvPicPr/>
          <p:nvPr/>
        </p:nvPicPr>
        <p:blipFill>
          <a:blip r:embed="rId2"/>
          <a:stretch/>
        </p:blipFill>
        <p:spPr>
          <a:xfrm>
            <a:off x="324000" y="4005360"/>
            <a:ext cx="4500360" cy="2631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ahoma"/>
              </a:rPr>
              <a:t>TEMA 2 </a:t>
            </a:r>
            <a:br>
              <a:rPr sz="4400"/>
            </a:br>
            <a:r>
              <a:rPr b="1" lang="es-ES_tradnl" sz="4400" spc="-1" strike="noStrike">
                <a:solidFill>
                  <a:srgbClr val="ff9900"/>
                </a:solidFill>
                <a:latin typeface="Tahoma"/>
              </a:rPr>
              <a:t>ESTUDIO TECN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icture 10" descr="Hospital"/>
          <p:cNvPicPr/>
          <p:nvPr/>
        </p:nvPicPr>
        <p:blipFill>
          <a:blip r:embed="rId3"/>
          <a:stretch/>
        </p:blipFill>
        <p:spPr>
          <a:xfrm>
            <a:off x="250920" y="189000"/>
            <a:ext cx="4176720" cy="234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Cocina"/>
          <p:cNvPicPr/>
          <p:nvPr/>
        </p:nvPicPr>
        <p:blipFill>
          <a:blip r:embed="rId4"/>
          <a:stretch/>
        </p:blipFill>
        <p:spPr>
          <a:xfrm>
            <a:off x="5292720" y="3973680"/>
            <a:ext cx="36720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000" y="475920"/>
            <a:ext cx="48942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000"/>
                </a:solidFill>
                <a:latin typeface="Tahoma"/>
              </a:rPr>
              <a:t>LOCALIZAC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680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REFIERE A LA UBICACIÓN FISICA  DONDE SE UBICARA O CONSTRUIRA EL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CROLOCALIZ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ICROLOCALIZ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8" descr="ubicacion"/>
          <p:cNvPicPr/>
          <p:nvPr/>
        </p:nvPicPr>
        <p:blipFill>
          <a:blip r:embed="rId1"/>
          <a:stretch/>
        </p:blipFill>
        <p:spPr>
          <a:xfrm>
            <a:off x="5292720" y="1557360"/>
            <a:ext cx="3851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000"/>
                </a:solidFill>
                <a:latin typeface="Times New Roman"/>
              </a:rPr>
              <a:t>LOCALIZACION OPTIM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LA QUE CONTRIBUYE EN MAYOR MEDIDA, A QUE SE LOGRE LA MAYOR TASA DE RENTABILIDAD SOBRE LA INVERSION O EN LA QUE SE LOGRE EL MAYOR BENEFICIO SOCI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000"/>
                </a:solidFill>
                <a:latin typeface="Times New Roman"/>
              </a:rPr>
              <a:t>FACTORES A CONSIDER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SU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ACTORES CLIMATOLOG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PONIBILIDAD DE SERVICIOS BA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DIOS Y VIA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ACTERISTICAS DE LA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URSOS HUM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SPECTOS LEGALES Y FIS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000"/>
                </a:solidFill>
                <a:latin typeface="Tahoma"/>
              </a:rPr>
              <a:t>METODOS PARA LOCALIZAR UN PROYECT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MÉTODO DE PUNTAJE PONDER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MÉTODO DE VALORACIÓN DE LOS FACTORES DE LOCALIZACIÓN DE ACUERDO CON LOS C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</a:rPr>
              <a:t>METODO DE PUNTAJE PONDERAD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611280" y="1484280"/>
          <a:ext cx="8078760" cy="473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78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Oval 4"/>
          <p:cNvSpPr/>
          <p:nvPr/>
        </p:nvSpPr>
        <p:spPr>
          <a:xfrm>
            <a:off x="7667640" y="5157720"/>
            <a:ext cx="9144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VALORACIÓN DE LOS FACTORES DE LOCALIZACIÓN DE ACUERDO CON LOS COSTO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55640" y="1268280"/>
          <a:ext cx="7772400" cy="5133960"/>
        </p:xfrm>
        <a:graphic>
          <a:graphicData uri="http://schemas.openxmlformats.org/drawingml/2006/table">
            <a:tbl>
              <a:tblPr/>
              <a:tblGrid>
                <a:gridCol w="4027320"/>
                <a:gridCol w="1872000"/>
                <a:gridCol w="1873080"/>
              </a:tblGrid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ACT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CALIZACION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CALIZACION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RANSPORTE MATERIA PRI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vers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36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12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perac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15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6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ISPONIBILIDAD DE ENERG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vers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3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87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perac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37.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1.25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ISPONIBILIDAD DE AGU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vers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6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4.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perac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1.25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1.3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ISPONIBILIDAD RECURSOS HUMAN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vers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89.7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15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perac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3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57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TOTAL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nversió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$161.70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$118.60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peració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$56.75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$65.55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503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9900"/>
                </a:solidFill>
                <a:latin typeface="Tahoma"/>
              </a:rPr>
              <a:t>TECNOLOGI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CONJUNTO DE PROCEDIMIENTOS Y MEDIOS QUE EL PROYECTO UTILIZARA PARA PRODUCIR LOS BIENES O PRESTAR LOS SERVICIO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6" descr="geotermia"/>
          <p:cNvPicPr/>
          <p:nvPr/>
        </p:nvPicPr>
        <p:blipFill>
          <a:blip r:embed="rId1"/>
          <a:stretch/>
        </p:blipFill>
        <p:spPr>
          <a:xfrm>
            <a:off x="7093080" y="333360"/>
            <a:ext cx="1747800" cy="136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tecnologia"/>
          <p:cNvPicPr/>
          <p:nvPr/>
        </p:nvPicPr>
        <p:blipFill>
          <a:blip r:embed="rId2"/>
          <a:stretch/>
        </p:blipFill>
        <p:spPr>
          <a:xfrm>
            <a:off x="468360" y="333360"/>
            <a:ext cx="1511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Times New Roman"/>
              </a:rPr>
              <a:t>ALTERNATIVAS TECNOLOGICA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31640" y="4076280"/>
            <a:ext cx="29509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lleno Sanitario de Trinchera Man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lleno Sanitario de Área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lleno Sanitario de Área Mecan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92360" y="4076280"/>
            <a:ext cx="30243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nejo Integral de Desech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6920" y="1628640"/>
            <a:ext cx="75614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 IMPORTANTE DESTACAR QUE EN UN ESTUDIO DE PROYECTO SE REQUIERE HACER UN ANALISIS DE LOS PRO Y LOS CONTRA DE LAS DIFERENTES ALTERNATIVAS TECNOLOGIC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TECNOLOGIA APROPIA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LA ADECUADA A LOS OBJETIVOS DEL PROYECTO, LA POBLACION Y CONDICIONES LOCA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NO ES LA TECNOLOGIA DE PUNTA, NI LA OBSELETA, SINO MAS BIEN DESARROLLADA A LOS FINES DEL PROYE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imes New Roman"/>
              </a:rPr>
              <a:t>PROCESO DE PRODUCCION </a:t>
            </a:r>
            <a:br>
              <a:rPr sz="4000"/>
            </a:br>
            <a:r>
              <a:rPr b="1" lang="es-ES_tradnl" sz="4000" spc="-1" strike="noStrike">
                <a:solidFill>
                  <a:srgbClr val="ffcc66"/>
                </a:solidFill>
                <a:latin typeface="Times New Roman"/>
              </a:rPr>
              <a:t>O PRESTACION DE SERVIC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 FORMA O LOS METODOS MEDIANTE LOS QUE, CON CIERTOS RECURSOS Y TECNOLOGIA, SE LOGRA PRODUCIR EL BIEN O BRINDAR UN SERVIC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ngenieria"/>
          <p:cNvPicPr/>
          <p:nvPr/>
        </p:nvPicPr>
        <p:blipFill>
          <a:blip r:embed="rId1"/>
          <a:stretch/>
        </p:blipFill>
        <p:spPr>
          <a:xfrm>
            <a:off x="0" y="0"/>
            <a:ext cx="3105000" cy="2266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3280" y="404280"/>
            <a:ext cx="5843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000"/>
                </a:solidFill>
                <a:latin typeface="Times New Roman"/>
              </a:rPr>
              <a:t>¿QUE ES EL ESTUDIO TECNIC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6964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ESTUDIO QUE PERMITE DETERMINAR SI ES POSIBLE O NO, PRODUCIR O PRESTAR LOS BIENES Y SERVICIOS.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5" descr="ingenieria2"/>
          <p:cNvPicPr/>
          <p:nvPr/>
        </p:nvPicPr>
        <p:blipFill>
          <a:blip r:embed="rId2"/>
          <a:stretch/>
        </p:blipFill>
        <p:spPr>
          <a:xfrm>
            <a:off x="5435640" y="4869000"/>
            <a:ext cx="3708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6091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66"/>
                </a:solidFill>
                <a:latin typeface="Times New Roman"/>
              </a:rPr>
              <a:t>EL PROCESO CONSISTE EN: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  <a:ea typeface="Tahoma"/>
              </a:rPr>
              <a:t>Definir de manera narrativa, los diferentes pasos o etapas para brindar el servicio o producir el bien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3000" spc="-1" strike="noStrike">
                <a:solidFill>
                  <a:srgbClr val="ffffff"/>
                </a:solidFill>
                <a:latin typeface="Tahoma"/>
                <a:ea typeface="Tahoma"/>
              </a:rPr>
              <a:t>SOPORTADO POR DIAGRAMAS DE FLUJO.</a:t>
            </a:r>
            <a:br>
              <a:rPr sz="3000"/>
            </a:b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557360" y="1905120"/>
            <a:ext cx="1076400" cy="36324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165320" y="2724120"/>
            <a:ext cx="1763640" cy="638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cole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046240" y="2268360"/>
            <a:ext cx="3240" cy="455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2050920" y="3357720"/>
            <a:ext cx="3240" cy="455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2050920" y="5445000"/>
            <a:ext cx="3240" cy="363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1763640" y="5805360"/>
            <a:ext cx="488880" cy="4557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6745320" y="1168560"/>
            <a:ext cx="488880" cy="45540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7037280" y="1623960"/>
            <a:ext cx="3240" cy="455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6156360" y="1989000"/>
            <a:ext cx="1763640" cy="63684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7037280" y="2625840"/>
            <a:ext cx="3240" cy="455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2288160" y="48769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24"/>
          <p:cNvSpPr/>
          <p:nvPr/>
        </p:nvSpPr>
        <p:spPr>
          <a:xfrm>
            <a:off x="1187280" y="3789360"/>
            <a:ext cx="1764000" cy="638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sl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1187280" y="4724280"/>
            <a:ext cx="1764000" cy="638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2050920" y="4437000"/>
            <a:ext cx="3240" cy="363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27"/>
          <p:cNvSpPr/>
          <p:nvPr/>
        </p:nvSpPr>
        <p:spPr>
          <a:xfrm>
            <a:off x="6227640" y="4581360"/>
            <a:ext cx="1764000" cy="63684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sición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7093080" y="4149720"/>
            <a:ext cx="2880" cy="455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30"/>
          <p:cNvSpPr/>
          <p:nvPr/>
        </p:nvSpPr>
        <p:spPr>
          <a:xfrm>
            <a:off x="6156360" y="3068640"/>
            <a:ext cx="1800360" cy="1081080"/>
          </a:xfrm>
          <a:prstGeom prst="flowChartDecisi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as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rgán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7093080" y="5229360"/>
            <a:ext cx="2880" cy="455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32"/>
          <p:cNvSpPr/>
          <p:nvPr/>
        </p:nvSpPr>
        <p:spPr>
          <a:xfrm>
            <a:off x="6516720" y="5661000"/>
            <a:ext cx="1076400" cy="36504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7218000" y="40496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35"/>
          <p:cNvSpPr/>
          <p:nvPr/>
        </p:nvSpPr>
        <p:spPr>
          <a:xfrm flipH="1">
            <a:off x="5651640" y="3645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3924360" y="3284640"/>
            <a:ext cx="1763640" cy="6364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laborar Com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abono orgánic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4859280" y="3933720"/>
            <a:ext cx="3240" cy="455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38"/>
          <p:cNvSpPr/>
          <p:nvPr/>
        </p:nvSpPr>
        <p:spPr>
          <a:xfrm>
            <a:off x="3995640" y="4365720"/>
            <a:ext cx="1763640" cy="6364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AutoShape 41"/>
          <p:cNvCxnSpPr>
            <a:stCxn id="185" idx="2"/>
            <a:endCxn id="180" idx="1"/>
          </p:cNvCxnSpPr>
          <p:nvPr/>
        </p:nvCxnSpPr>
        <p:spPr>
          <a:xfrm flipH="1" rot="16200000">
            <a:off x="5275800" y="4603320"/>
            <a:ext cx="842040" cy="1639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7" name="Text Box 42"/>
          <p:cNvSpPr/>
          <p:nvPr/>
        </p:nvSpPr>
        <p:spPr>
          <a:xfrm>
            <a:off x="5797800" y="31417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43"/>
          <p:cNvSpPr/>
          <p:nvPr/>
        </p:nvSpPr>
        <p:spPr>
          <a:xfrm flipH="1">
            <a:off x="5651640" y="234936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44"/>
          <p:cNvSpPr/>
          <p:nvPr/>
        </p:nvSpPr>
        <p:spPr>
          <a:xfrm>
            <a:off x="3924360" y="1989000"/>
            <a:ext cx="1763640" cy="63684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cicl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0" name="AutoShape 45"/>
          <p:cNvCxnSpPr>
            <a:stCxn id="189" idx="1"/>
            <a:endCxn id="191" idx="0"/>
          </p:cNvCxnSpPr>
          <p:nvPr/>
        </p:nvCxnSpPr>
        <p:spPr>
          <a:xfrm flipV="1" rot="10800000">
            <a:off x="3707640" y="2307960"/>
            <a:ext cx="216720" cy="1823040"/>
          </a:xfrm>
          <a:prstGeom prst="bentConnector2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92" name="Line 46"/>
          <p:cNvSpPr/>
          <p:nvPr/>
        </p:nvSpPr>
        <p:spPr>
          <a:xfrm>
            <a:off x="3708360" y="414972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ahoma"/>
              </a:rPr>
              <a:t>DIAGRAMA DE PROCES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Picture 6" descr="proceso"/>
          <p:cNvPicPr/>
          <p:nvPr/>
        </p:nvPicPr>
        <p:blipFill>
          <a:blip r:embed="rId1"/>
          <a:stretch/>
        </p:blipFill>
        <p:spPr>
          <a:xfrm>
            <a:off x="539640" y="1197000"/>
            <a:ext cx="82090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ahoma"/>
              </a:rPr>
              <a:t>REQUERIMIENTOS DEL PROCES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MATERIALES O INSUM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EQUIP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INFRAESTRUCTUR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MOBILIA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ahoma"/>
              </a:rPr>
              <a:t>INGENIERIA DEL PROYECT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ahoma"/>
              </a:rPr>
              <a:t>INFRAESTRUTURA:</a:t>
            </a: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diseños y especificaciones técnicas de las instalacion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ahoma"/>
              </a:rPr>
              <a:t>EQUIPAMIENTO:</a:t>
            </a: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Especificaciones técnicas de los equipos, así como sus requerimientos de instal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ahoma"/>
              </a:rPr>
              <a:t>Niveles de Ingenierí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Ingeniería Concep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geniería básica o a veces llamada de escritorio;  definir con precisión los criterios tecnológicos del diseño, flujos de procesos, especificaciones de equipos principales, entre ot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geniería de detalle; Especificaciones detalladas, planos, listados de equipos, dimensionamiento, materiales de construcción, montaje de equip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geniería de terreno; Complementa a la de detalle en todas aquellas deficiencias en los planos de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ahoma"/>
              </a:rPr>
              <a:t>COSTOS DEL PROYEC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VERSION: TERRENOS, EDIFICIOS, EQUIPOS, CAPACITACION, SUPERVI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ÓN: SALARIOS, SERVICIOS, MATERIALES E INSUMOS, MANTENIMIENTO, ALQUILERES, ADMINISTRATIVOS, ENTRE OT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ahoma"/>
              </a:rPr>
              <a:t>ASPECTOS ADMINISTRATIV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ORGANIZACIÓN PARA LA EJECUCION Y LA OPERACIÓ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CRONOGRAMA DE ACTIVIDAD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9900"/>
                </a:solidFill>
                <a:latin typeface="Tahoma"/>
              </a:rPr>
              <a:t>Organización para la ejecució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ff"/>
                </a:solidFill>
                <a:latin typeface="Tahoma"/>
              </a:rPr>
              <a:t>Funcional: Diluida, Coordinador y Jefe técn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ff"/>
                </a:solidFill>
                <a:latin typeface="Tahoma"/>
              </a:rPr>
              <a:t>Exclusiva o Ad-Ho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ff"/>
                </a:solidFill>
                <a:latin typeface="Tahoma"/>
              </a:rPr>
              <a:t>Matricial: Débil o fue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539640" y="1530360"/>
            <a:ext cx="7911720" cy="4635000"/>
            <a:chOff x="539640" y="1530360"/>
            <a:chExt cx="7911720" cy="4635000"/>
          </a:xfrm>
        </p:grpSpPr>
        <p:sp>
          <p:nvSpPr>
            <p:cNvPr id="208" name="Rectangle 3"/>
            <p:cNvSpPr/>
            <p:nvPr/>
          </p:nvSpPr>
          <p:spPr>
            <a:xfrm>
              <a:off x="539640" y="1530360"/>
              <a:ext cx="1428480" cy="4635000"/>
            </a:xfrm>
            <a:prstGeom prst="rect">
              <a:avLst/>
            </a:prstGeom>
            <a:solidFill>
              <a:srgbClr val="0000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279440" bIns="1279440" anchor="t">
              <a:normAutofit fontScale="84000"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</a:rPr>
                <a:t>Actividad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</a:rPr>
                <a:t>Actividad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</a:rPr>
                <a:t>Actividad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</a:rPr>
                <a:t>Actividad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</a:rPr>
                <a:t>Actividad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</a:rPr>
                <a:t>Actividad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</a:rPr>
                <a:t>Actividad 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11240" y="1530360"/>
              <a:ext cx="6540120" cy="46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1911240" y="1530360"/>
              <a:ext cx="6540120" cy="5194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1955160" y="1693080"/>
              <a:ext cx="6667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EN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4475880" y="1693080"/>
              <a:ext cx="5079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FEBR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6496560" y="1693080"/>
              <a:ext cx="5018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MARZ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911240" y="2062800"/>
              <a:ext cx="48888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413080" y="2062800"/>
              <a:ext cx="49176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917800" y="2062800"/>
              <a:ext cx="49032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3421800" y="2062800"/>
              <a:ext cx="49176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3926520" y="2062800"/>
              <a:ext cx="49032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4"/>
            <p:cNvSpPr/>
            <p:nvPr/>
          </p:nvSpPr>
          <p:spPr>
            <a:xfrm>
              <a:off x="4430160" y="2062800"/>
              <a:ext cx="49032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4933800" y="2062800"/>
              <a:ext cx="49032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5437440" y="2062800"/>
              <a:ext cx="49356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7"/>
            <p:cNvSpPr/>
            <p:nvPr/>
          </p:nvSpPr>
          <p:spPr>
            <a:xfrm>
              <a:off x="5943960" y="2062800"/>
              <a:ext cx="49176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6449040" y="2062800"/>
              <a:ext cx="49032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6952680" y="2062800"/>
              <a:ext cx="48852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7454160" y="2062800"/>
              <a:ext cx="49536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7962840" y="2062800"/>
              <a:ext cx="488520" cy="522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5160" bIns="651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>
              <a:off x="1917720" y="2592360"/>
              <a:ext cx="65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23"/>
            <p:cNvSpPr/>
            <p:nvPr/>
          </p:nvSpPr>
          <p:spPr>
            <a:xfrm>
              <a:off x="240624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>
              <a:off x="291168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25"/>
            <p:cNvSpPr/>
            <p:nvPr/>
          </p:nvSpPr>
          <p:spPr>
            <a:xfrm>
              <a:off x="341496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392040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442368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492732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>
              <a:off x="543060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593748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31"/>
            <p:cNvSpPr/>
            <p:nvPr/>
          </p:nvSpPr>
          <p:spPr>
            <a:xfrm>
              <a:off x="644256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694620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744804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34"/>
            <p:cNvSpPr/>
            <p:nvPr/>
          </p:nvSpPr>
          <p:spPr>
            <a:xfrm>
              <a:off x="7956360" y="259848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5"/>
            <p:cNvSpPr/>
            <p:nvPr/>
          </p:nvSpPr>
          <p:spPr>
            <a:xfrm>
              <a:off x="2051640" y="2826000"/>
              <a:ext cx="1502280" cy="2160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6"/>
            <p:cNvSpPr/>
            <p:nvPr/>
          </p:nvSpPr>
          <p:spPr>
            <a:xfrm>
              <a:off x="2917800" y="3208680"/>
              <a:ext cx="1281600" cy="211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37"/>
            <p:cNvSpPr/>
            <p:nvPr/>
          </p:nvSpPr>
          <p:spPr>
            <a:xfrm>
              <a:off x="2195280" y="3665520"/>
              <a:ext cx="2293560" cy="2145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38"/>
            <p:cNvSpPr/>
            <p:nvPr/>
          </p:nvSpPr>
          <p:spPr>
            <a:xfrm>
              <a:off x="4791600" y="4043160"/>
              <a:ext cx="2288520" cy="219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9"/>
            <p:cNvSpPr/>
            <p:nvPr/>
          </p:nvSpPr>
          <p:spPr>
            <a:xfrm>
              <a:off x="3709440" y="4501440"/>
              <a:ext cx="2291400" cy="219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40"/>
            <p:cNvSpPr/>
            <p:nvPr/>
          </p:nvSpPr>
          <p:spPr>
            <a:xfrm>
              <a:off x="7312320" y="4883760"/>
              <a:ext cx="779400" cy="2145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41"/>
            <p:cNvSpPr/>
            <p:nvPr/>
          </p:nvSpPr>
          <p:spPr>
            <a:xfrm>
              <a:off x="8033040" y="5263200"/>
              <a:ext cx="346320" cy="2174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Rectangle 42"/>
          <p:cNvSpPr/>
          <p:nvPr/>
        </p:nvSpPr>
        <p:spPr>
          <a:xfrm>
            <a:off x="684360" y="189000"/>
            <a:ext cx="7848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ahoma"/>
              </a:rPr>
              <a:t>CRONOGRAMA</a:t>
            </a:r>
            <a:br>
              <a:rPr sz="3200"/>
            </a:br>
            <a:r>
              <a:rPr b="1" lang="es-ES_tradnl" sz="3200" spc="-1" strike="noStrike">
                <a:solidFill>
                  <a:srgbClr val="ff9900"/>
                </a:solidFill>
                <a:latin typeface="Tahoma"/>
              </a:rPr>
              <a:t>PROGRAMACIÓN FÍS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165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000"/>
                </a:solidFill>
                <a:latin typeface="Times New Roman"/>
              </a:rPr>
              <a:t>OBJETIVO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DETERMINAR LA FUNCION DE PRODUCCION O PRESTACION DEL SERVICIO, QUE PERMITA PRODUCIR LOS BIENES O BRINDAR LOS SERVICIOS DE MANERA OPTIM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objetivo"/>
          <p:cNvPicPr/>
          <p:nvPr/>
        </p:nvPicPr>
        <p:blipFill>
          <a:blip r:embed="rId1"/>
          <a:stretch/>
        </p:blipFill>
        <p:spPr>
          <a:xfrm>
            <a:off x="611280" y="40464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objetivos"/>
          <p:cNvPicPr/>
          <p:nvPr/>
        </p:nvPicPr>
        <p:blipFill>
          <a:blip r:embed="rId2"/>
          <a:stretch/>
        </p:blipFill>
        <p:spPr>
          <a:xfrm>
            <a:off x="6877080" y="476280"/>
            <a:ext cx="16556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ahoma"/>
              </a:rPr>
              <a:t>ASPECTOS LEG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REVISION, ANALISIS Y EVALUACION DE LAS PRINCIPALES LEYES, DECRETOS, REGLAMENTOS, CODIGOS Y NORMAS, QUE TENGAN INCIDENCIA DIRECTA EN EL PROYEC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ahoma"/>
              </a:rPr>
              <a:t>ASPECTOS LEG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stit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eyes fis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ey de salu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ey ambi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ey contrataciones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ódigo labo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guridad ocup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ey generación de ener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ey Administración financi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 maestro de uso de suelo o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000"/>
                </a:solidFill>
                <a:latin typeface="Times New Roman"/>
              </a:rPr>
              <a:t>¿CUÁLES SON LAS VARIABLES DE LA FUNCIÓN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i="1" lang="es-ES" sz="60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s-ES" sz="6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es-ES" sz="6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es-ES" sz="6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,…..x</a:t>
            </a:r>
            <a:r>
              <a:rPr b="0" lang="es-ES" sz="6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" sz="6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=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" sz="6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=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" sz="60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=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000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AMA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LOCALIZAC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ECNOLOGI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proceso y requerimient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GENI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ASPECTOS ADMINISTRATI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ASPECTOS LEG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000"/>
                </a:solidFill>
                <a:latin typeface="Times New Roman"/>
              </a:rPr>
              <a:t>TAMAÑ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SE UTILIZA EL TERMINO DE TAMAÑO, PARA DENOMINAR LA MAGNITUD DE LA CAPACIDAD INSTALADA QUE TENDRA EL PROYECTO PARA PRODUCIR LOS BIENES O PRESTAR LOS SERVICI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000"/>
                </a:solidFill>
                <a:latin typeface="Tahoma"/>
              </a:rPr>
              <a:t>El Tamaño del Proyecto se puede definir por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blación atend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rea de influencia o cober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pacidad de procesa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uperfic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olu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ngit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92000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imes New Roman"/>
              </a:rPr>
              <a:t>VARIABLES A CONSIDERAR PARA DEFINIR EL TAMAÑO DEL PROYEC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MA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SU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CNOLO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URSOS HUMA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PACIDAD GEREN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000"/>
                </a:solidFill>
                <a:latin typeface="Tahoma"/>
              </a:rPr>
              <a:t>ALTERNATIVAS DEL TAMAÑ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Baja capacidad inic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Alta capacidad inicial o capacidad ocio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xpansión escalona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Capacidad única con ampliación por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06:51:37Z</dcterms:created>
  <dc:creator>Internet Café El Faro</dc:creator>
  <dc:description/>
  <dc:language>en-US</dc:language>
  <cp:lastModifiedBy>Sergio Ivan Vega Mayorga</cp:lastModifiedBy>
  <dcterms:modified xsi:type="dcterms:W3CDTF">2020-08-22T17:43:50Z</dcterms:modified>
  <cp:revision>125</cp:revision>
  <dc:subject/>
  <dc:title>ESTUDIO TECNICO</dc:title>
</cp:coreProperties>
</file>