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TIGO.WAV" ContentType="audio/x-wav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157-9FF7-449F-B3CE-5C3435C6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945-E35C-49DC-A1FB-59EA60B2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9F2-83ED-4B41-88B2-4D67BC3C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F49-2CBD-4608-B25E-09FF8597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745F-0905-45C6-A707-8D193024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8A90-51ED-43A3-B577-E62B67F9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9136-0597-4981-A5CB-D3F244F1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3593-D33D-4F42-AE45-382DF8FF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E171-B688-4A4A-98A9-0FEF9A7C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BA1A-5E24-49A0-95EB-8492949D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9FD5-05F5-4698-B910-E1CEC231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385-52C3-4D29-B19C-A481B706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8C51-3EC3-45C5-807B-3D8852F8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DBC8-148A-4291-9A87-95476900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1B44-8524-412E-9599-0E54D286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2B39-C221-48FC-8797-A2518A05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9036-C569-4C4A-B5B7-8C1CBB8C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FE2-BD18-4CF6-B41B-A9BAF39D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79B-F142-4373-A1AD-F53DAE69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BDD-1C88-4B7F-A8F9-721FB3C7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B92B-ACB9-4E77-B1B9-5AACBD04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DEE-AD91-4BAE-AB3A-40FC04B9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538-D55C-4352-87B8-2D2DB774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74B-CF19-4A9B-820D-3C73B6F8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6359-E409-45AF-A208-D0744F086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2836-36F4-4BC1-8F5C-880F74BB1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Documents/Consultor&#237;a/Presentaciones/Ciclo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268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Sc. Sergio Iván Vega Mayo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9640" y="3716280"/>
            <a:ext cx="81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cc66"/>
                </a:solidFill>
                <a:latin typeface="Arial"/>
              </a:rPr>
              <a:t>TEMA 3 ADMINISTRACION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cc66"/>
                </a:solidFill>
                <a:latin typeface="Arial"/>
              </a:rPr>
              <a:t>DE PROYECTOS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Picture 6" descr="DIRECTOR ORQUESTA"/>
          <p:cNvPicPr/>
          <p:nvPr/>
        </p:nvPicPr>
        <p:blipFill>
          <a:blip r:embed="rId1"/>
          <a:stretch/>
        </p:blipFill>
        <p:spPr>
          <a:xfrm>
            <a:off x="2411280" y="404640"/>
            <a:ext cx="453564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ahoma"/>
              </a:rPr>
              <a:t>SUBPROCESOS DE LA ETAPA DE EJECU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609480" y="2133720"/>
            <a:ext cx="4953240" cy="761760"/>
          </a:xfrm>
          <a:prstGeom prst="rect">
            <a:avLst/>
          </a:pr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LANIFICAR LA EJECUCION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609480" y="3048120"/>
            <a:ext cx="4953240" cy="990360"/>
          </a:xfrm>
          <a:prstGeom prst="rect">
            <a:avLst/>
          </a:pr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NEGOCIACIONES Y 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TRATACIONES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609480" y="4191120"/>
            <a:ext cx="4953240" cy="990360"/>
          </a:xfrm>
          <a:prstGeom prst="rect">
            <a:avLst/>
          </a:pr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SARROLLO Y CONTROL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 ACTIVIDADES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609480" y="5334120"/>
            <a:ext cx="4953240" cy="761760"/>
          </a:xfrm>
          <a:prstGeom prst="rect">
            <a:avLst/>
          </a:pr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ECEPCIÓN O TERMINO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AutoShape 21"/>
          <p:cNvSpPr/>
          <p:nvPr/>
        </p:nvSpPr>
        <p:spPr>
          <a:xfrm>
            <a:off x="6019920" y="1828800"/>
            <a:ext cx="1828800" cy="1066680"/>
          </a:xfrm>
          <a:prstGeom prst="rightArrow">
            <a:avLst>
              <a:gd name="adj1" fmla="val 50000"/>
              <a:gd name="adj2" fmla="val 42862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NUAL DE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JECUCION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>
            <a:off x="6019920" y="3048120"/>
            <a:ext cx="1828800" cy="1066680"/>
          </a:xfrm>
          <a:prstGeom prst="rightArrow">
            <a:avLst>
              <a:gd name="adj1" fmla="val 50000"/>
              <a:gd name="adj2" fmla="val 42862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ONTRATOS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ADJUDICADOS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>
            <a:off x="6019920" y="4114800"/>
            <a:ext cx="1828800" cy="1066680"/>
          </a:xfrm>
          <a:prstGeom prst="rightArrow">
            <a:avLst>
              <a:gd name="adj1" fmla="val 50000"/>
              <a:gd name="adj2" fmla="val 42862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ROYECTO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OMPLETADO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>
            <a:off x="6019920" y="5257800"/>
            <a:ext cx="1828800" cy="1143000"/>
          </a:xfrm>
          <a:prstGeom prst="rightArrow">
            <a:avLst>
              <a:gd name="adj1" fmla="val 50000"/>
              <a:gd name="adj2" fmla="val 40000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INFORME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DE TERMINO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ae0d"/>
                </a:solidFill>
                <a:latin typeface="Tahoma"/>
                <a:ea typeface="Tahoma"/>
              </a:rPr>
              <a:t>PROCESOS DE LA GERENCIA</a:t>
            </a:r>
            <a:br>
              <a:rPr sz="3600"/>
            </a:br>
            <a:r>
              <a:rPr b="1" lang="es-ES" sz="3600" spc="-1" strike="noStrike">
                <a:solidFill>
                  <a:srgbClr val="ffae0d"/>
                </a:solidFill>
                <a:latin typeface="Tahoma"/>
                <a:ea typeface="Tahoma"/>
              </a:rPr>
              <a:t>PMBok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00400" y="1981080"/>
            <a:ext cx="396396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dirección de proyectos se logra mediante la aplicación e integración de los procesos de dirección de proyectos de inicio, planificación, ejecución, seguimiento y control, y cierr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37"/>
          <p:cNvGrpSpPr/>
          <p:nvPr/>
        </p:nvGrpSpPr>
        <p:grpSpPr>
          <a:xfrm>
            <a:off x="142920" y="2019240"/>
            <a:ext cx="4785840" cy="4195440"/>
            <a:chOff x="142920" y="2019240"/>
            <a:chExt cx="4785840" cy="4195440"/>
          </a:xfrm>
        </p:grpSpPr>
        <p:sp>
          <p:nvSpPr>
            <p:cNvPr id="162" name="Oval 21"/>
            <p:cNvSpPr/>
            <p:nvPr/>
          </p:nvSpPr>
          <p:spPr>
            <a:xfrm>
              <a:off x="411840" y="2019240"/>
              <a:ext cx="3833280" cy="4195440"/>
            </a:xfrm>
            <a:prstGeom prst="ellipse">
              <a:avLst/>
            </a:prstGeom>
            <a:noFill/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163" name="AutoShape 22"/>
            <p:cNvSpPr/>
            <p:nvPr/>
          </p:nvSpPr>
          <p:spPr>
            <a:xfrm>
              <a:off x="1231200" y="2689560"/>
              <a:ext cx="2533320" cy="1847160"/>
            </a:xfrm>
            <a:custGeom>
              <a:avLst/>
              <a:gdLst>
                <a:gd name="textAreaLeft" fmla="*/ 0 w 2533320"/>
                <a:gd name="textAreaRight" fmla="*/ 716760 w 2533320"/>
                <a:gd name="textAreaTop" fmla="*/ 711000 h 1847160"/>
                <a:gd name="textAreaBottom" fmla="*/ 1847520 h 184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1445760" y="2663640"/>
              <a:ext cx="154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ROCESOS DE</a:t>
              </a:r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EACIÓN</a:t>
              </a:r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165" name="AutoShape 24"/>
            <p:cNvSpPr/>
            <p:nvPr/>
          </p:nvSpPr>
          <p:spPr>
            <a:xfrm rot="10800000">
              <a:off x="956880" y="4201920"/>
              <a:ext cx="2534760" cy="1847160"/>
            </a:xfrm>
            <a:custGeom>
              <a:avLst/>
              <a:gdLst>
                <a:gd name="textAreaLeft" fmla="*/ 0 w 2534760"/>
                <a:gd name="textAreaRight" fmla="*/ 716400 w 2534760"/>
                <a:gd name="textAreaTop" fmla="*/ 711000 h 1847160"/>
                <a:gd name="textAreaBottom" fmla="*/ 1847520 h 184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1632600" y="5461200"/>
              <a:ext cx="19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600" spc="-1" strike="noStrike">
                  <a:solidFill>
                    <a:srgbClr val="00003d"/>
                  </a:solidFill>
                  <a:latin typeface="Tahoma"/>
                  <a:ea typeface="Tahoma"/>
                </a:rPr>
                <a:t>PROCESOS DE</a:t>
              </a:r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600" spc="-1" strike="noStrike">
                  <a:solidFill>
                    <a:srgbClr val="00003d"/>
                  </a:solidFill>
                  <a:latin typeface="Tahoma"/>
                  <a:ea typeface="Tahoma"/>
                </a:rPr>
                <a:t>EJECUCIÓN</a:t>
              </a:r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959040" y="2083680"/>
              <a:ext cx="282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ROCESOS DE</a:t>
              </a:r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SEGUIMIENTO Y CONTROL</a:t>
              </a:r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4245480" y="3783240"/>
              <a:ext cx="0" cy="0"/>
            </a:xfrm>
            <a:prstGeom prst="line">
              <a:avLst/>
            </a:prstGeom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169" name="Rectangle 28"/>
            <p:cNvSpPr/>
            <p:nvPr/>
          </p:nvSpPr>
          <p:spPr>
            <a:xfrm>
              <a:off x="411840" y="3529440"/>
              <a:ext cx="271800" cy="1761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 flipH="1">
              <a:off x="205560" y="3529440"/>
              <a:ext cx="273240" cy="5050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171" name="Line 30"/>
            <p:cNvSpPr/>
            <p:nvPr/>
          </p:nvSpPr>
          <p:spPr>
            <a:xfrm>
              <a:off x="273960" y="4704480"/>
              <a:ext cx="409680" cy="5050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172" name="Rectangle 32"/>
            <p:cNvSpPr/>
            <p:nvPr/>
          </p:nvSpPr>
          <p:spPr>
            <a:xfrm>
              <a:off x="4039920" y="3613320"/>
              <a:ext cx="479160" cy="14263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173" name="Line 33"/>
            <p:cNvSpPr/>
            <p:nvPr/>
          </p:nvSpPr>
          <p:spPr>
            <a:xfrm>
              <a:off x="4175640" y="3613320"/>
              <a:ext cx="479520" cy="4212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174" name="Line 34"/>
            <p:cNvSpPr/>
            <p:nvPr/>
          </p:nvSpPr>
          <p:spPr>
            <a:xfrm flipV="1">
              <a:off x="4039920" y="4704120"/>
              <a:ext cx="615240" cy="33516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175" name="AutoShape 35"/>
            <p:cNvSpPr/>
            <p:nvPr/>
          </p:nvSpPr>
          <p:spPr>
            <a:xfrm>
              <a:off x="3697920" y="3613320"/>
              <a:ext cx="1230840" cy="15127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ROCESOS</a:t>
              </a:r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 CIERRE</a:t>
              </a:r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176" name="AutoShape 36"/>
            <p:cNvSpPr/>
            <p:nvPr/>
          </p:nvSpPr>
          <p:spPr>
            <a:xfrm>
              <a:off x="142920" y="3548880"/>
              <a:ext cx="1499760" cy="1512000"/>
            </a:xfrm>
            <a:prstGeom prst="rightArrow">
              <a:avLst>
                <a:gd name="adj1" fmla="val 50000"/>
                <a:gd name="adj2" fmla="val 20519"/>
              </a:avLst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ROCESOS</a:t>
              </a:r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</a:t>
              </a:r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INICIACIÓN</a:t>
              </a:r>
              <a:endParaRPr b="1" lang="en-US" sz="16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71600" y="1413000"/>
            <a:ext cx="8672400" cy="5078160"/>
          </a:xfrm>
          <a:prstGeom prst="rect">
            <a:avLst/>
          </a:prstGeom>
          <a:ln w="0">
            <a:noFill/>
          </a:ln>
        </p:spPr>
      </p:pic>
      <p:sp>
        <p:nvSpPr>
          <p:cNvPr id="178" name="2 Rectángulo"/>
          <p:cNvSpPr/>
          <p:nvPr/>
        </p:nvSpPr>
        <p:spPr>
          <a:xfrm>
            <a:off x="324000" y="620640"/>
            <a:ext cx="882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ffcc66"/>
                </a:solidFill>
                <a:latin typeface="Tahoma"/>
              </a:rPr>
              <a:t>CICLO DE VIDA DE UN PROYECTO,PMI</a:t>
            </a:r>
            <a:endParaRPr b="1" lang="en-US" sz="3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ae0d"/>
                </a:solidFill>
                <a:latin typeface="Tahoma"/>
              </a:rPr>
              <a:t>GRUPOS DE PROCESOS DE LA GERENCIA DE PROYECTO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700280"/>
            <a:ext cx="84409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901"/>
              </a:spcBef>
              <a:buClr>
                <a:srgbClr val="ffae0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ae0d"/>
                </a:solidFill>
                <a:latin typeface="Tahoma"/>
              </a:rPr>
              <a:t>Iniciación: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Define y autoriza el proyecto o una fase (Acta constitución y enunciado del proyecto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901"/>
              </a:spcBef>
              <a:buClr>
                <a:srgbClr val="ffae0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ae0d"/>
                </a:solidFill>
                <a:latin typeface="Tahoma"/>
              </a:rPr>
              <a:t>Planeación: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Define y precisa los objetivos, y planea el curso de acción requerido para lograr los objetivos y el alcance pretendido del proyect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901"/>
              </a:spcBef>
              <a:buClr>
                <a:srgbClr val="ffae0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ae0d"/>
                </a:solidFill>
                <a:latin typeface="Tahoma"/>
              </a:rPr>
              <a:t>Ejecución: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Integra a personas y otros recursos para llevar a cabo el plan de gestión del proyect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ae0d"/>
                </a:solidFill>
                <a:latin typeface="Tahoma"/>
              </a:rPr>
              <a:t>GRUPOS DE PROCESOS DE LA GERENCIA DE PROYECTO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700280"/>
            <a:ext cx="84409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901"/>
              </a:spcBef>
              <a:buClr>
                <a:srgbClr val="ffae0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ae0d"/>
                </a:solidFill>
                <a:latin typeface="Tahoma"/>
              </a:rPr>
              <a:t>Seguimiento y Control: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Mide y supervisa regularmente el avance, a fin de identificar las variaciones respecto del plan de gestión del proyecto, de tal forma que se tomen medidas correctivas necesarias para cumplir los objetivos del proyect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901"/>
              </a:spcBef>
              <a:buClr>
                <a:srgbClr val="ffae0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ae0d"/>
                </a:solidFill>
                <a:latin typeface="Tahoma"/>
              </a:rPr>
              <a:t>Cierre: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Formaliza la aceptación del producto, servicio o resultado, y termina ordenadamente el proyecto o una fase del mism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802944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ae0d"/>
                </a:solidFill>
                <a:latin typeface="Tahoma"/>
              </a:rPr>
              <a:t>¿QUIENES DEBEN REALIZAR</a:t>
            </a:r>
            <a:br>
              <a:rPr sz="3000"/>
            </a:br>
            <a:r>
              <a:rPr b="1" lang="es-ES_tradnl" sz="3000" spc="-1" strike="noStrike">
                <a:solidFill>
                  <a:srgbClr val="ffae0d"/>
                </a:solidFill>
                <a:latin typeface="Tahoma"/>
              </a:rPr>
              <a:t>LA PLANIFICACION DE LA EJECUCION?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28520"/>
            <a:ext cx="77724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  <a:ea typeface="Tahoma"/>
              </a:rPr>
              <a:t>El responsable o gerente del proyecto, junto a sus colaboradores son los responsables de planificar la ejecución y elaborar el manual de ejecuci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just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  <a:ea typeface="Tahoma"/>
              </a:rPr>
              <a:t>Contado para ello con la documentación de preinversión del proyecto, las condiciones del contrato del crédito y estudios adicionales actualizad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Tahoma"/>
              </a:rPr>
              <a:t>¿QUE ES EL MANUAL DE EJECUCION?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S EL DOCUMENTO QUE REFLEJA COMO EL EQUIPO EJECUTARA EL PROYECTO EN TIEMPO, COSTO Y CAL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FINIENDO ADEMAS, LA ORGANIZACIÓN, EL ESTILO DE LIDERAZGO Y LOS MECANISMOS DE CONTROL A EMPL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00"/>
                </a:solidFill>
                <a:latin typeface="Tahoma"/>
              </a:rPr>
              <a:t>CONTENIDO DEL MANUAL</a:t>
            </a:r>
            <a:br>
              <a:rPr sz="2800"/>
            </a:br>
            <a:r>
              <a:rPr b="1" lang="es-ES_tradnl" sz="2800" spc="-1" strike="noStrike">
                <a:solidFill>
                  <a:srgbClr val="ff9900"/>
                </a:solidFill>
                <a:latin typeface="Tahoma"/>
              </a:rPr>
              <a:t>DE EJECUCIÓN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CAPITULO 1: ASPECTOS GENERA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CAPITULO 2: ANALISIS DE VIABILID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CAPITULO 3: PLANIFICACION FISICA Y 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     FINANCIE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CAPITULO 4: PLANIFICACION DE LA 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     ORGANIZACIÓ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CAPITULO 5: PLANIFICACION DE LA 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     DIRE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CAPITULO 6: PLANIFICAR LAS 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     CONTRATACI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CAPITULO 7: PLANIFICACION DEL SISTEMA DE 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     CONTROL Y SEGUIMIEN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CAPITULO 8: PLANIFICAR LA ADMINISTRACIÓN 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     FINANCIERA DEL CREDI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171960" y="1355760"/>
            <a:ext cx="2454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9800" y="2314440"/>
            <a:ext cx="2514600" cy="824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  <a:ea typeface="Tahoma"/>
              </a:rPr>
              <a:t>4 GESTION DE LA INTEGRACION DEL PROYECTO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289320" y="2314440"/>
            <a:ext cx="2514600" cy="824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  <a:ea typeface="Tahoma"/>
              </a:rPr>
              <a:t>5 GESTION DEL ALCANCE DEL PROYECTO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337440" y="2314440"/>
            <a:ext cx="2514600" cy="824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  <a:ea typeface="Tahoma"/>
              </a:rPr>
              <a:t>6 GESTION DEL TIEMPO DEL PROYECTO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82760" y="3297240"/>
            <a:ext cx="2514600" cy="580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  <a:ea typeface="Tahoma"/>
              </a:rPr>
              <a:t>7 GESTION DE COSTOS DEL PROYECTO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348000" y="3306600"/>
            <a:ext cx="2514600" cy="824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  <a:ea typeface="Tahoma"/>
              </a:rPr>
              <a:t>8 GESTION DE LA CALIDAD DEL PROYECTO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337440" y="3306600"/>
            <a:ext cx="2590560" cy="733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  <a:ea typeface="Tahoma"/>
              </a:rPr>
              <a:t>9 GESTION DE RECURSOS HUMANOS DEL PROYECTO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469800" y="4384800"/>
            <a:ext cx="2514600" cy="824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Tahoma"/>
                <a:ea typeface="Tahoma"/>
              </a:rPr>
              <a:t>10 GESTION DE LAS COMUNICACIONES DEL PROYECTO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3348000" y="4384800"/>
            <a:ext cx="2514600" cy="824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Tahoma"/>
                <a:ea typeface="Tahoma"/>
              </a:rPr>
              <a:t>11 GESTION DE RIESGOS DEL PROYECTO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6375240" y="4373640"/>
            <a:ext cx="2514600" cy="824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Tahoma"/>
                <a:ea typeface="Tahoma"/>
              </a:rPr>
              <a:t>12 GESTION DE LAS ADQUISICIONES PROYECTO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8680" y="4017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Tahoma"/>
                <a:ea typeface="Tahoma"/>
              </a:rPr>
              <a:t>AREAS DEL CONOCIMIENTO</a:t>
            </a:r>
            <a:br>
              <a:rPr sz="2800"/>
            </a:br>
            <a:r>
              <a:rPr b="1" lang="es-ES" sz="2800" spc="-1" strike="noStrike">
                <a:solidFill>
                  <a:srgbClr val="ff9900"/>
                </a:solidFill>
                <a:latin typeface="Tahoma"/>
                <a:ea typeface="Tahoma"/>
              </a:rPr>
              <a:t>DEFINIDAS POR EL PMI 5Ta Edición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469800" y="5445000"/>
            <a:ext cx="251460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13 GESTION DE INVOLUCRADO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>
            <a:off x="533520" y="1341360"/>
            <a:ext cx="7854840" cy="43736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1332000" y="0"/>
            <a:ext cx="6769080" cy="963720"/>
          </a:xfrm>
          <a:prstGeom prst="roundRect">
            <a:avLst>
              <a:gd name="adj" fmla="val 12495"/>
            </a:avLst>
          </a:prstGeom>
          <a:solidFill>
            <a:srgbClr val="000066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476360" y="0"/>
            <a:ext cx="6191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ahoma"/>
              </a:rPr>
              <a:t>CICLO DE VIDA DE UN PROYECTO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ahoma"/>
              </a:rPr>
              <a:t>ICA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7543800" y="5181480"/>
            <a:ext cx="0" cy="9907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 flipH="1">
            <a:off x="7162920" y="61722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>
            <a:off x="4800240" y="624852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 flipV="1">
            <a:off x="4800600" y="5715000"/>
            <a:ext cx="0" cy="5335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1908000" y="1557360"/>
            <a:ext cx="833760" cy="287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 flipH="1" flipV="1">
            <a:off x="2123640" y="5300640"/>
            <a:ext cx="576360" cy="21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6877080" y="1844640"/>
            <a:ext cx="533520" cy="22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8172360" y="3860640"/>
            <a:ext cx="15264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430440" y="422280"/>
            <a:ext cx="146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 flipV="1">
            <a:off x="533520" y="3124080"/>
            <a:ext cx="75960" cy="4572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Oval 15"/>
          <p:cNvSpPr/>
          <p:nvPr/>
        </p:nvSpPr>
        <p:spPr>
          <a:xfrm>
            <a:off x="2895480" y="3200400"/>
            <a:ext cx="3429000" cy="838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3048120" y="3429000"/>
            <a:ext cx="32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BJETIVO DEL PROYECTO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0" y="3860640"/>
            <a:ext cx="3348000" cy="2016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3132000" y="4221000"/>
            <a:ext cx="2016360" cy="1224000"/>
          </a:xfrm>
          <a:prstGeom prst="leftArrow">
            <a:avLst>
              <a:gd name="adj1" fmla="val 50000"/>
              <a:gd name="adj2" fmla="val 41184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GESTION 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DEL PROYECTO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6804000" y="2708280"/>
            <a:ext cx="2340000" cy="865080"/>
          </a:xfrm>
          <a:prstGeom prst="flowChartProcess">
            <a:avLst/>
          </a:prstGeom>
          <a:solidFill>
            <a:srgbClr val="00006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Times New Roman"/>
              </a:rPr>
              <a:t>PREINVERS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3203640" y="1052640"/>
            <a:ext cx="2735280" cy="865080"/>
          </a:xfrm>
          <a:prstGeom prst="flowChartProcess">
            <a:avLst/>
          </a:prstGeom>
          <a:solidFill>
            <a:srgbClr val="00006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Tahoma"/>
              </a:rPr>
              <a:t>IDENTIFICAC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Tahoma"/>
              </a:rPr>
              <a:t>PROBLEMAS, NECESIDADES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ff9900"/>
                </a:solidFill>
                <a:latin typeface="Tahoma"/>
              </a:rPr>
              <a:t>U OPORTUNIDADES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AutoShape 21"/>
          <p:cNvSpPr/>
          <p:nvPr/>
        </p:nvSpPr>
        <p:spPr>
          <a:xfrm>
            <a:off x="6588000" y="4292640"/>
            <a:ext cx="2340000" cy="865080"/>
          </a:xfrm>
          <a:prstGeom prst="flowChartProcess">
            <a:avLst/>
          </a:prstGeom>
          <a:solidFill>
            <a:srgbClr val="00006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Tahoma"/>
              </a:rPr>
              <a:t>PROMOCION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Tahoma"/>
              </a:rPr>
              <a:t>NEGOCIACION 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Tahoma"/>
              </a:rPr>
              <a:t>FINANCIAMIENTO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5076720" y="5805360"/>
            <a:ext cx="2016360" cy="576360"/>
          </a:xfrm>
          <a:prstGeom prst="flowChartProcess">
            <a:avLst/>
          </a:prstGeom>
          <a:solidFill>
            <a:srgbClr val="00006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ahoma"/>
              </a:rPr>
              <a:t>DISEÑO FINAL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AutoShape 23"/>
          <p:cNvSpPr/>
          <p:nvPr/>
        </p:nvSpPr>
        <p:spPr>
          <a:xfrm>
            <a:off x="395280" y="4292640"/>
            <a:ext cx="2340000" cy="865080"/>
          </a:xfrm>
          <a:prstGeom prst="flowChartProcess">
            <a:avLst/>
          </a:prstGeom>
          <a:solidFill>
            <a:srgbClr val="00006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Tahoma"/>
              </a:rPr>
              <a:t>INVERS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Tahoma"/>
              </a:rPr>
              <a:t>EJECUC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AutoShape 24"/>
          <p:cNvSpPr/>
          <p:nvPr/>
        </p:nvSpPr>
        <p:spPr>
          <a:xfrm>
            <a:off x="0" y="2276640"/>
            <a:ext cx="2340000" cy="865080"/>
          </a:xfrm>
          <a:prstGeom prst="flowChartProcess">
            <a:avLst/>
          </a:prstGeom>
          <a:solidFill>
            <a:srgbClr val="00006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Tahoma"/>
              </a:rPr>
              <a:t>OPERAC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3090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Tahoma"/>
              </a:rPr>
              <a:t>¿ QUÉ ES  ADMINISTRACIÓN DE PROYECTOS ?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68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La administración de proyectos es el proceso de planificar, organizar, dirigir y controlar, con el fin de  coordinar los recursos humanos y materiales para alcanzar las metas planteadas de manera ópti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70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ae0d"/>
                </a:solidFill>
                <a:latin typeface="Tahoma"/>
                <a:ea typeface="Tahoma"/>
              </a:rPr>
              <a:t>SEGÚN EL CONSEJO DE ADMINISTRACIÓN DE NEGOCIOS DE NY(BMC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ff9900"/>
                </a:solidFill>
                <a:latin typeface="Tahoma"/>
              </a:rPr>
              <a:t>Administración de proyectos es:</a:t>
            </a:r>
            <a:r>
              <a:rPr b="0" lang="es-CR" sz="4000" spc="-1" strike="noStrike">
                <a:solidFill>
                  <a:srgbClr val="ffffff"/>
                </a:solidFill>
                <a:latin typeface="Tahoma"/>
              </a:rPr>
              <a:t> Alcanzar objetivos a través de la gente , por medio de la planificación, organización, dirección y contro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ahoma"/>
              </a:rPr>
              <a:t>PROCESOS ADMINISTRATIV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971800" y="1523880"/>
            <a:ext cx="2971800" cy="60984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867280" y="3200400"/>
            <a:ext cx="2971800" cy="6094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971800" y="4952880"/>
            <a:ext cx="2971800" cy="60984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RIGI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228600" y="3200400"/>
            <a:ext cx="2971800" cy="6094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TROLA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5943600" y="1828800"/>
            <a:ext cx="1447920" cy="13716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523880" y="3809880"/>
            <a:ext cx="1447920" cy="13716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1523880" y="1752480"/>
            <a:ext cx="1447920" cy="1447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5943600" y="3809880"/>
            <a:ext cx="1447920" cy="1447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4572000" y="2133720"/>
            <a:ext cx="0" cy="28191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3276720" y="3429000"/>
            <a:ext cx="27432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3962520" y="3276720"/>
            <a:ext cx="12952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Tahoma"/>
              </a:rPr>
              <a:t>PLANIFIC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Es el proceso que permite determinar las acciones concretas y las estrategias adecuadas que permitan de manera anticipada determinar o definir el rumbo o curso de acción que ha de seguirse para alcanzar una situación deseada, haciendo un uso racional de los recurs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Dentro del subproceso de planificación hay que considerar la programación, que realmente es la materialización cuantitativa de los productos alcanzados en la plan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9900"/>
                </a:solidFill>
                <a:latin typeface="Tahoma"/>
              </a:rPr>
              <a:t>ORGANIZ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onsiste en distribuir o dividir el trabajo que deben de realizar las diferentes unidades, o equipos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Así como, la asignación de recursos humanos y materiales con la cantidad y calidad adecuada que permita alcanzar los objetivos de manera eficaz mediante el esfuerzo conjunto del trabajo huma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9900"/>
                </a:solidFill>
                <a:latin typeface="Tahoma"/>
              </a:rPr>
              <a:t>DIRIGI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Consiste en el uso de la autoridad concedida o adquirida para hacer que los colaboradores realicen las actividades asigna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Además, la dirección tiene bajo su responsabilidad la creación de un clima laboral adecuado que permita un trabajo armonioso en el proy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9900"/>
                </a:solidFill>
                <a:latin typeface="Tahoma"/>
              </a:rPr>
              <a:t>CONTROL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ffffff"/>
                </a:solidFill>
                <a:latin typeface="Tahoma"/>
              </a:rPr>
              <a:t>Es el proceso administrativo mediante el cual, se trata de mantener dentro de un cierto rango de desviación las metas físicas, financieras y de calidad de un proyect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R" sz="1200" spc="-1" strike="noStrike" u="sng">
                <a:solidFill>
                  <a:srgbClr val="3366ff"/>
                </a:solidFill>
                <a:uFillTx/>
                <a:latin typeface="Tahoma"/>
                <a:hlinkClick r:id="rId1"/>
              </a:rPr>
              <a:t>Ciclo.p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2T10:13:39Z</dcterms:created>
  <dc:creator>SERGIO IVAN VEGA MAYORGA</dc:creator>
  <dc:description/>
  <dc:language>en-US</dc:language>
  <cp:lastModifiedBy>Sergio Ivan Vega Mayorga</cp:lastModifiedBy>
  <dcterms:modified xsi:type="dcterms:W3CDTF">2020-08-22T17:41:23Z</dcterms:modified>
  <cp:revision>168</cp:revision>
  <dc:subject/>
  <dc:title>¿ QUÉ ES LA ADMINISTRACIÓN DE PROYECTOS ?</dc:title>
</cp:coreProperties>
</file>