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whoosh.wav" ContentType="audio/x-wav"/>
  <Override PartName="/ppt/media/image3.png" ContentType="image/png"/>
  <Override PartName="/ppt/media/image4.jpeg" ContentType="image/jpeg"/>
  <Override PartName="/ppt/media/LATIGO.WAV" ContentType="audio/x-wav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0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616700" cy="85963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0F5B-C3C8-4B7C-B999-79F993802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91A5-006D-47BE-81C7-21B9C173B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960C-C719-402C-BD39-3B79AA6CA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87AB-4AE9-44B3-B95A-3EE8047A6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9653D-7C3F-4DAB-AD80-3B02E8315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08782-5400-4E5A-8519-79EF90067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9F3CB-DDE8-4719-BFB0-AAC9F5012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5226F-042C-4566-8459-7CB23F3FA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5A62E-FC58-4859-A905-B1BDA2326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76496-774D-4039-B08D-EF34487DA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9BB7E-D060-47E4-B5DD-C6E6E47BA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C69C-2B08-45F1-ADC7-61525F569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48148-5A3E-407B-A88F-F4E3037BC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1FAA0-CA49-4EB3-816C-D2F33B211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9AFDE-AE69-4686-A8D3-17B962883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4E003-2A2F-4493-BBA2-E8AEC0C30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133A0-AAF2-4966-A7D3-03756CCE4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7687EB-FF30-47F0-8B7F-E2104C935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0F9F51-788B-4B03-8DD4-7FE33FC1F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1F279B-ECC5-40E8-914B-7213D3F62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504B0A-3B4B-4338-8120-659ED1D53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5DC467-650D-49D3-92CB-4A5E7658B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FB43-147B-42EF-8372-B3FBEC1D8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674882-04D7-4680-9C20-1820B57B6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540BDE-672C-4104-BD15-978493B66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FEB3F8-4EB3-44EB-ABA0-76FA33675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CC741C-3763-4BAE-B106-4CBFB758C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72705A-9ABC-49A3-B0A7-9A3855193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237813-281C-4640-B460-E87770163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D48528-78D3-4F1D-8996-B38DFD491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7388B5-4C76-473F-B2D0-25B5B7B4D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EA9CFA-5761-4E42-B340-1F9F5D56C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21D8F8-A38A-47BD-9812-92FDBB898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BB92-DAA8-4B1C-9ADF-4B87DD978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CF5B7D-A703-4AA7-9B83-6D8004E23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CB8187-CD08-40FD-8ADF-50277A322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54D0E7-F6AB-47AA-B7B7-AF29DE232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73EB45-00F7-43A4-B6CA-425D7EF9C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AF8319-B549-44F3-98F9-11ED8D5CC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D2B156-0C16-456A-9ABB-491D7F45C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D51BFA-0AB8-438D-A34F-229C5329E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122B8D-782F-4363-B65D-92177D07F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DE17BF-551E-46E8-AE72-D4A8304FE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4B20-0928-4744-AE0B-D22326841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7016-2091-4622-9141-641EBEF5E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A211-09D1-422F-963A-AEEAFEEA4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1F6E-5DD6-404B-B953-5A76C6B55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3B89-98D9-4B11-8CDF-0FC628C7E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005D9-C918-4E96-84F9-A04C9F6BF084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04912-5AFF-498E-86ED-524D5164A605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E6955-18EF-4584-9814-2BA14A3D485B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Freeform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Freeform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B2528-9864-4359-9862-9F0151AC62B0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audio" Target="../media/LATIGO.WAV"/><Relationship Id="rId5" Type="http://schemas.openxmlformats.org/officeDocument/2006/relationships/audio" Target="../media/LATIGO.WAV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audio" Target="../media/LATIGO.WAV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audio" Target="../media/LATIGO.WAV"/><Relationship Id="rId5" Type="http://schemas.openxmlformats.org/officeDocument/2006/relationships/audio" Target="../media/LATIGO.WAV"/><Relationship Id="rId6" Type="http://schemas.openxmlformats.org/officeDocument/2006/relationships/audio" Target="../media/LATIGO.WAV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audio" Target="../media/LATIGO.WAV"/><Relationship Id="rId5" Type="http://schemas.openxmlformats.org/officeDocument/2006/relationships/audio" Target="../media/LATIGO.WAV"/><Relationship Id="rId6" Type="http://schemas.openxmlformats.org/officeDocument/2006/relationships/audio" Target="../media/LATIGO.WAV"/><Relationship Id="rId7" Type="http://schemas.openxmlformats.org/officeDocument/2006/relationships/audio" Target="../media/LATIGO.WAV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2"/>
          <p:cNvSpPr/>
          <p:nvPr/>
        </p:nvSpPr>
        <p:spPr>
          <a:xfrm>
            <a:off x="684360" y="2349360"/>
            <a:ext cx="80010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cc"/>
                </a:solidFill>
                <a:latin typeface="Tahoma"/>
              </a:rPr>
              <a:t>TEMA 2 :</a:t>
            </a:r>
            <a:br>
              <a:rPr sz="2800"/>
            </a:br>
            <a:r>
              <a:rPr b="1" lang="es-ES_tradnl" sz="2800" spc="-1" strike="noStrike">
                <a:solidFill>
                  <a:srgbClr val="0000cc"/>
                </a:solidFill>
                <a:latin typeface="Tahoma"/>
              </a:rPr>
              <a:t> EVALUACION FINANCIERA</a:t>
            </a:r>
            <a:br>
              <a:rPr sz="2800"/>
            </a:br>
            <a:r>
              <a:rPr b="1" lang="es-ES_tradnl" sz="2800" spc="-1" strike="noStrike">
                <a:solidFill>
                  <a:srgbClr val="0000cc"/>
                </a:solidFill>
                <a:latin typeface="Tahoma"/>
              </a:rPr>
              <a:t>EVALUACION ECONOMICA SO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2484360" y="5373720"/>
            <a:ext cx="64008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Tahoma"/>
              </a:rPr>
              <a:t>MSc. SERGIO IVAN VEGA MAYO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cc"/>
                </a:solidFill>
                <a:latin typeface="Tahoma"/>
              </a:rPr>
              <a:t>CONTENIDO DE LA EVALUACIÓN</a:t>
            </a:r>
            <a:br>
              <a:rPr sz="2800"/>
            </a:br>
            <a:r>
              <a:rPr b="1" lang="es-ES_tradnl" sz="2800" spc="-1" strike="noStrike">
                <a:solidFill>
                  <a:srgbClr val="0000cc"/>
                </a:solidFill>
                <a:latin typeface="Tahoma"/>
              </a:rPr>
              <a:t>ECONÓMICA-SOCIAL</a:t>
            </a:r>
            <a:br>
              <a:rPr sz="2800"/>
            </a:br>
            <a:r>
              <a:rPr b="1" lang="es-ES_tradnl" sz="2800" spc="-1" strike="noStrike">
                <a:solidFill>
                  <a:srgbClr val="0000cc"/>
                </a:solidFill>
                <a:latin typeface="Tahoma"/>
              </a:rPr>
              <a:t>(METODOLOGÍA COSTO/EFECTIVIDAD)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09480" y="19807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algn="just">
              <a:lnSpc>
                <a:spcPct val="8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0000"/>
                </a:solidFill>
                <a:latin typeface="Tahoma"/>
              </a:rPr>
              <a:t>Utilizado cuando es muy difícil expresar los beneficios en unidades monetarias.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3000" spc="-1" strike="noStrike">
                <a:solidFill>
                  <a:srgbClr val="000000"/>
                </a:solidFill>
                <a:latin typeface="Tahoma"/>
              </a:rPr>
              <a:t>El Proyecto en el marco de políticas nacionales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0000"/>
                </a:solidFill>
                <a:latin typeface="Tahoma"/>
              </a:rPr>
              <a:t>Identificar costos intangibles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0000"/>
                </a:solidFill>
                <a:latin typeface="Tahoma"/>
              </a:rPr>
              <a:t>Identificar beneficios intangibles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0000"/>
                </a:solidFill>
                <a:latin typeface="Tahoma"/>
              </a:rPr>
              <a:t>Análisis costo efectividad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000" spc="-1" strike="noStrike">
                <a:solidFill>
                  <a:srgbClr val="0000cc"/>
                </a:solidFill>
                <a:latin typeface="Tahoma"/>
                <a:ea typeface="Tahoma"/>
              </a:rPr>
              <a:t>Benefici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9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ahoma"/>
                <a:ea typeface="Tahoma"/>
              </a:rPr>
              <a:t>Los Beneficios de un proyecto pueden ser: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ahoma"/>
                <a:ea typeface="Tahoma"/>
              </a:rPr>
              <a:t>Directos Tangibles o Intangibles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ahoma"/>
                <a:ea typeface="Tahoma"/>
              </a:rPr>
              <a:t>Indirectos Tangibles o Intangibles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98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4000" spc="-1" strike="noStrike">
                <a:solidFill>
                  <a:srgbClr val="0000cc"/>
                </a:solidFill>
                <a:latin typeface="Tahoma"/>
                <a:ea typeface="Tahoma"/>
              </a:rPr>
              <a:t>COSTO ANUAL EQUIVALENTE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000000"/>
                </a:solidFill>
                <a:latin typeface="Tahoma"/>
                <a:ea typeface="Tahoma"/>
              </a:rPr>
              <a:t>El índice Costo efectividad es el resultado de dividir el Gasto Anual Equivalente entre las Metas que alcanzará el proyecto (Población beneficiada, Reducción de Ilícitos, Reducción de Accidentes)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600" spc="-1" strike="noStrike">
                <a:solidFill>
                  <a:srgbClr val="000000"/>
                </a:solidFill>
                <a:latin typeface="Tahoma"/>
                <a:ea typeface="Tahoma"/>
              </a:rPr>
              <a:t>ICE</a:t>
            </a:r>
            <a:r>
              <a:rPr b="1" lang="es-CR" sz="2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fectividad</a:t>
            </a:r>
            <a:r>
              <a:rPr b="1" lang="es-CR" sz="2600" spc="-1" strike="noStrike">
                <a:solidFill>
                  <a:srgbClr val="000000"/>
                </a:solidFill>
                <a:latin typeface="Tahoma"/>
                <a:ea typeface="Tahoma"/>
              </a:rPr>
              <a:t> = GAE /Metas del Proyect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71240" y="456840"/>
            <a:ext cx="83516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4000" spc="-1" strike="noStrike">
                <a:solidFill>
                  <a:srgbClr val="0000cc"/>
                </a:solidFill>
                <a:latin typeface="Tahoma"/>
                <a:ea typeface="Tahoma"/>
              </a:rPr>
              <a:t>PROCEDIMIENTO DE CALCULO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699920"/>
            <a:ext cx="8229600" cy="48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600" spc="-1" strike="noStrike">
                <a:solidFill>
                  <a:srgbClr val="000000"/>
                </a:solidFill>
                <a:latin typeface="Tahoma"/>
                <a:ea typeface="Tahoma"/>
              </a:rPr>
              <a:t>1.</a:t>
            </a:r>
            <a:r>
              <a:rPr b="0" lang="es-CR" sz="26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s-CR" sz="2600" spc="-1" strike="noStrike">
                <a:solidFill>
                  <a:srgbClr val="000000"/>
                </a:solidFill>
                <a:latin typeface="Tahoma"/>
                <a:ea typeface="Tahoma"/>
              </a:rPr>
              <a:t>Construir el flujo de Gastos Netos del proyect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684360" y="2349360"/>
          <a:ext cx="8192880" cy="4183200"/>
        </p:xfrm>
        <a:graphic>
          <a:graphicData uri="http://schemas.openxmlformats.org/drawingml/2006/table">
            <a:tbl>
              <a:tblPr/>
              <a:tblGrid>
                <a:gridCol w="2536560"/>
                <a:gridCol w="974880"/>
                <a:gridCol w="973080"/>
                <a:gridCol w="973080"/>
                <a:gridCol w="892080"/>
                <a:gridCol w="920880"/>
                <a:gridCol w="922320"/>
              </a:tblGrid>
              <a:tr h="243720">
                <a:tc rowSpan="2"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ONCEP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6"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HORIZONTE DE EVALU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ño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ño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ño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ño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ño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ño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776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TOTAL DE INVERSION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7800">
                <a:tc>
                  <a:txBody>
                    <a:bodyPr lIns="44280" rIns="442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Fij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7800">
                <a:tc>
                  <a:txBody>
                    <a:bodyPr lIns="44280" rIns="442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Intangib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708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GASTOS DE OPERACIÓN 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0.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0.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0.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0.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0.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6600">
                <a:tc>
                  <a:txBody>
                    <a:bodyPr lIns="44280" rIns="442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erson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7800">
                <a:tc>
                  <a:txBody>
                    <a:bodyPr lIns="44280" rIns="442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teria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5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5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5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5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5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7800">
                <a:tc>
                  <a:txBody>
                    <a:bodyPr lIns="44280" rIns="442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ombustible o Transpor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7800">
                <a:tc>
                  <a:txBody>
                    <a:bodyPr lIns="44280" rIns="442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ervicios Básic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7800">
                <a:tc>
                  <a:txBody>
                    <a:bodyPr lIns="44280" rIns="442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Otr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04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FLUJO DE GASTOS NE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r>
                        <a:rPr b="1" lang="es-C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.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40.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40.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40.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40.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40.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600" spc="-1" strike="noStrike">
                <a:solidFill>
                  <a:srgbClr val="000000"/>
                </a:solidFill>
                <a:latin typeface="Tahoma"/>
                <a:ea typeface="Tahoma"/>
              </a:rPr>
              <a:t>2.</a:t>
            </a:r>
            <a:r>
              <a:rPr b="0" lang="es-CR" sz="26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s-CR" sz="2600" spc="-1" strike="noStrike">
                <a:solidFill>
                  <a:srgbClr val="000000"/>
                </a:solidFill>
                <a:latin typeface="Tahoma"/>
                <a:ea typeface="Tahoma"/>
              </a:rPr>
              <a:t>Con el flujo de Gastos Netos del proyecto se calcula el Gasto Actual Net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0000"/>
                </a:solidFill>
                <a:latin typeface="Tahoma"/>
                <a:ea typeface="Tahoma"/>
              </a:rPr>
              <a:t>GAN: Gasto Actual Neto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0000"/>
                </a:solidFill>
                <a:latin typeface="Tahoma"/>
                <a:ea typeface="Tahoma"/>
              </a:rPr>
              <a:t>Gt: Gasto del Año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0000"/>
                </a:solidFill>
                <a:latin typeface="Tahoma"/>
                <a:ea typeface="Tahoma"/>
              </a:rPr>
              <a:t>i:Tasa Social de Descuento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0000"/>
                </a:solidFill>
                <a:latin typeface="Tahoma"/>
                <a:ea typeface="Tahoma"/>
              </a:rPr>
              <a:t>t: Tiempo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Object 2"/>
              <p:cNvSpPr txBox="1"/>
              <p:nvPr/>
            </p:nvSpPr>
            <p:spPr>
              <a:xfrm>
                <a:off x="1158840" y="2813040"/>
                <a:ext cx="6149880" cy="186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GAN</m:t>
                    </m:r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0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f>
                      <m:num>
                        <m:r>
                          <m:t xml:space="preserve">G</m:t>
                        </m:r>
                        <m:r>
                          <m:t xml:space="preserve">t</m:t>
                        </m:r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i</m:t>
                                </m:r>
                              </m:e>
                            </m:d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71240" y="456840"/>
            <a:ext cx="83516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4000" spc="-1" strike="noStrike">
                <a:solidFill>
                  <a:srgbClr val="0000cc"/>
                </a:solidFill>
                <a:latin typeface="Tahoma"/>
                <a:ea typeface="Tahoma"/>
              </a:rPr>
              <a:t>PROCEDIMIENTO DE CALCULO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6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es-CR" sz="36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s-CR" sz="3600" spc="-1" strike="noStrike">
                <a:solidFill>
                  <a:srgbClr val="000000"/>
                </a:solidFill>
                <a:latin typeface="Tahoma"/>
                <a:ea typeface="Tahoma"/>
              </a:rPr>
              <a:t>Calcular el gasto anual equivalente con la formula de cuota uniforma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R" sz="2200" spc="-1" strike="noStrike">
                <a:solidFill>
                  <a:srgbClr val="000000"/>
                </a:solidFill>
                <a:latin typeface="Tahoma"/>
                <a:ea typeface="Tahoma"/>
              </a:rPr>
              <a:t>GAE: Gasto Anual Equivalentet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Object 2"/>
              <p:cNvSpPr txBox="1"/>
              <p:nvPr/>
            </p:nvSpPr>
            <p:spPr>
              <a:xfrm>
                <a:off x="1908000" y="2997360"/>
                <a:ext cx="5970600" cy="17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GAE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GAN</m:t>
                    </m:r>
                    <m:r>
                      <m:t xml:space="preserve">×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i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71240" y="456840"/>
            <a:ext cx="83516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4000" spc="-1" strike="noStrike">
                <a:solidFill>
                  <a:srgbClr val="0000cc"/>
                </a:solidFill>
                <a:latin typeface="Tahoma"/>
                <a:ea typeface="Tahoma"/>
              </a:rPr>
              <a:t>PROCEDIMIENTO DE CALCULO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714240" y="1699920"/>
            <a:ext cx="7715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6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es-CR" sz="26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s-CR" sz="2600" spc="-1" strike="noStrike">
                <a:solidFill>
                  <a:srgbClr val="000000"/>
                </a:solidFill>
                <a:latin typeface="Tahoma"/>
                <a:ea typeface="Tahoma"/>
              </a:rPr>
              <a:t>Calcular las metas anuales que  el proyecto se plante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600" spc="-1" strike="noStrike">
                <a:solidFill>
                  <a:srgbClr val="000000"/>
                </a:solidFill>
                <a:latin typeface="Tahoma"/>
                <a:ea typeface="Tahoma"/>
              </a:rPr>
              <a:t>Ejemplo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600" spc="-1" strike="noStrike">
                <a:solidFill>
                  <a:srgbClr val="000000"/>
                </a:solidFill>
                <a:latin typeface="Tahoma"/>
                <a:ea typeface="Tahoma"/>
              </a:rPr>
              <a:t>Población atendida anualment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600" spc="-1" strike="noStrike">
                <a:solidFill>
                  <a:srgbClr val="000000"/>
                </a:solidFill>
                <a:latin typeface="Tahoma"/>
                <a:ea typeface="Tahoma"/>
              </a:rPr>
              <a:t>Accidentes reducidos anualment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600" spc="-1" strike="noStrike">
                <a:solidFill>
                  <a:srgbClr val="000000"/>
                </a:solidFill>
                <a:latin typeface="Tahoma"/>
                <a:ea typeface="Tahoma"/>
              </a:rPr>
              <a:t>Aumento de volumen de comercialización por añ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71240" y="456840"/>
            <a:ext cx="83516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4000" spc="-1" strike="noStrike">
                <a:solidFill>
                  <a:srgbClr val="0000cc"/>
                </a:solidFill>
                <a:latin typeface="Tahoma"/>
                <a:ea typeface="Tahoma"/>
              </a:rPr>
              <a:t>PROCEDIMIENTO DE CALCULO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9640" y="1885680"/>
            <a:ext cx="806472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600" spc="-1" strike="noStrike">
                <a:solidFill>
                  <a:srgbClr val="000000"/>
                </a:solidFill>
                <a:latin typeface="Tahoma"/>
                <a:ea typeface="Tahoma"/>
              </a:rPr>
              <a:t>5</a:t>
            </a:r>
            <a:r>
              <a:rPr b="0" lang="es-CR" sz="36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s-CR" sz="3600" spc="-1" strike="noStrike">
                <a:solidFill>
                  <a:srgbClr val="000000"/>
                </a:solidFill>
                <a:latin typeface="Tahoma"/>
                <a:ea typeface="Tahoma"/>
              </a:rPr>
              <a:t>Dividir el resultado obtenido en el paso (3) GAE entre  las metas anuales que el proyecto deberá cumplir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4000" spc="-1" strike="noStrike">
                <a:solidFill>
                  <a:srgbClr val="000000"/>
                </a:solidFill>
                <a:latin typeface="Tahoma"/>
                <a:ea typeface="Tahoma"/>
              </a:rPr>
              <a:t>ICE</a:t>
            </a:r>
            <a:r>
              <a:rPr b="1" lang="es-CR" sz="40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fectividad</a:t>
            </a:r>
            <a:r>
              <a:rPr b="1" lang="es-CR" sz="4000" spc="-1" strike="noStrike">
                <a:solidFill>
                  <a:srgbClr val="000000"/>
                </a:solidFill>
                <a:latin typeface="Tahoma"/>
                <a:ea typeface="Tahoma"/>
              </a:rPr>
              <a:t> = GAE / Meta Anual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71240" y="456840"/>
            <a:ext cx="83516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4000" spc="-1" strike="noStrike">
                <a:solidFill>
                  <a:srgbClr val="0000cc"/>
                </a:solidFill>
                <a:latin typeface="Tahoma"/>
                <a:ea typeface="Tahoma"/>
              </a:rPr>
              <a:t>PROCEDIMIENTO DE CALCULO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63640" y="457200"/>
            <a:ext cx="7858080" cy="111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cc"/>
                </a:solidFill>
                <a:latin typeface="Tahoma"/>
                <a:ea typeface="Tahoma"/>
              </a:rPr>
              <a:t>EJEMPLO</a:t>
            </a:r>
            <a:br>
              <a:rPr sz="3200"/>
            </a:br>
            <a:r>
              <a:rPr b="1" lang="es-ES_tradnl" sz="3200" spc="-1" strike="noStrike">
                <a:solidFill>
                  <a:srgbClr val="0000cc"/>
                </a:solidFill>
                <a:latin typeface="Tahoma"/>
                <a:ea typeface="Tahoma"/>
              </a:rPr>
              <a:t>INDICE COSTO EFECTIVIDAD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642600" y="1699920"/>
            <a:ext cx="8072280" cy="470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algn="just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4617b"/>
                </a:solidFill>
                <a:latin typeface="Tahoma"/>
                <a:ea typeface="Tahoma"/>
              </a:rPr>
              <a:t>Costo anual equivalente por egreso hospitalario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4617b"/>
                </a:solidFill>
                <a:latin typeface="Tahoma"/>
                <a:ea typeface="Tahoma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  <a:ea typeface="Tahoma"/>
              </a:rPr>
              <a:t>CAEPEH = Costo anual equivalente a la tasa social de descuento / promedio de egresos hospitalarios anuale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4617b"/>
                </a:solidFill>
                <a:latin typeface="Tahoma"/>
                <a:ea typeface="Tahoma"/>
              </a:rPr>
              <a:t>Costo anual equivalente por consulta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  <a:ea typeface="Tahoma"/>
              </a:rPr>
              <a:t>CAEPC = Costo anual equivalente a la tasa social de descuento / Promedio de personas atendidas en consulta general por año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39280" y="404280"/>
            <a:ext cx="8280360" cy="117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cc"/>
                </a:solidFill>
                <a:latin typeface="Tahoma"/>
                <a:ea typeface="Tahoma"/>
              </a:rPr>
              <a:t>Limitaciones del Análisis</a:t>
            </a:r>
            <a:br>
              <a:rPr sz="3600"/>
            </a:br>
            <a:r>
              <a:rPr b="1" lang="es-ES_tradnl" sz="3600" spc="-1" strike="noStrike">
                <a:solidFill>
                  <a:srgbClr val="0000cc"/>
                </a:solidFill>
                <a:latin typeface="Tahoma"/>
                <a:ea typeface="Tahoma"/>
              </a:rPr>
              <a:t>Costo Efectividad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68000" y="1700280"/>
            <a:ext cx="8280360" cy="492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  <a:ea typeface="Tahoma"/>
              </a:rPr>
              <a:t>No es recomendable comparar proyectos o programas con objetivos diferentes, a menos que se homogenicen mediante un común denominador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  <a:ea typeface="Tahoma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  <a:ea typeface="Tahoma"/>
              </a:rPr>
              <a:t>Programa de reducción de la  malari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  <a:ea typeface="Tahoma"/>
              </a:rPr>
              <a:t>Programa de reducción de la desnutrició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  <a:ea typeface="Tahoma"/>
              </a:rPr>
              <a:t>Programa de educación via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  <a:ea typeface="Tahoma"/>
              </a:rPr>
              <a:t>Solo se pueden comparar si se toma como común denominador la probabilidad de incapacidades y muertes que ambos problemas pueden producir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300" spc="-1" strike="noStrike">
                <a:solidFill>
                  <a:srgbClr val="0000cc"/>
                </a:solidFill>
                <a:latin typeface="Tahoma"/>
              </a:rPr>
              <a:t>¿QUE ES LA EVALUACION FINANCIERA?</a:t>
            </a:r>
            <a:endParaRPr b="0" lang="en-US" sz="43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685800" y="2349360"/>
            <a:ext cx="7772400" cy="38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ahoma"/>
              </a:rPr>
              <a:t>La evaluación financiera es el estudio que mide el grado de rentabilidad de la inversión en un proyecto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057040" y="45684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cc"/>
                </a:solidFill>
                <a:latin typeface="Tahoma"/>
              </a:rPr>
              <a:t>Contenido de la Evaluación Financiera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130400" y="2060280"/>
            <a:ext cx="759600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80000"/>
              </a:lnSpc>
              <a:spcBef>
                <a:spcPts val="901"/>
              </a:spcBef>
              <a:buClr>
                <a:srgbClr val="0000cc"/>
              </a:buClr>
              <a:buSzPct val="9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ahoma"/>
              </a:rPr>
              <a:t>Programa de inversiones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901"/>
              </a:spcBef>
              <a:buClr>
                <a:srgbClr val="0000cc"/>
              </a:buClr>
              <a:buSzPct val="9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ahoma"/>
              </a:rPr>
              <a:t>Fuentes de financiamiento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901"/>
              </a:spcBef>
              <a:buClr>
                <a:srgbClr val="0000cc"/>
              </a:buClr>
              <a:buSzPct val="9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ahoma"/>
              </a:rPr>
              <a:t>Costos de operación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901"/>
              </a:spcBef>
              <a:buClr>
                <a:srgbClr val="0000cc"/>
              </a:buClr>
              <a:buSzPct val="9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ahoma"/>
              </a:rPr>
              <a:t>Ingresos o Sostenibilidad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901"/>
              </a:spcBef>
              <a:buClr>
                <a:srgbClr val="0000cc"/>
              </a:buClr>
              <a:buSzPct val="9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ahoma"/>
              </a:rPr>
              <a:t>Flujo de fondos (Caja)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901"/>
              </a:spcBef>
              <a:buClr>
                <a:srgbClr val="0000cc"/>
              </a:buClr>
              <a:buSzPct val="9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ahoma"/>
              </a:rPr>
              <a:t>Indicadores financieros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901"/>
              </a:spcBef>
              <a:buClr>
                <a:srgbClr val="0000cc"/>
              </a:buClr>
              <a:buSzPct val="9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ahoma"/>
              </a:rPr>
              <a:t>Análisis de sensibilidad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01" name="Object 4"/>
          <p:cNvGraphicFramePr/>
          <p:nvPr/>
        </p:nvGraphicFramePr>
        <p:xfrm>
          <a:off x="468360" y="800280"/>
          <a:ext cx="130968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800280"/>
                    <a:ext cx="130968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3" name="Object 5"/>
          <p:cNvGraphicFramePr/>
          <p:nvPr/>
        </p:nvGraphicFramePr>
        <p:xfrm>
          <a:off x="528480" y="723960"/>
          <a:ext cx="533520" cy="60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4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8480" y="723960"/>
                    <a:ext cx="5335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31880" y="333000"/>
            <a:ext cx="7772400" cy="73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cc"/>
                </a:solidFill>
                <a:latin typeface="Tahoma"/>
              </a:rPr>
              <a:t>Flujo de Caja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06" name="Object 8"/>
          <p:cNvGraphicFramePr/>
          <p:nvPr/>
        </p:nvGraphicFramePr>
        <p:xfrm>
          <a:off x="566640" y="1197000"/>
          <a:ext cx="7937640" cy="5661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7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6640" y="1197000"/>
                    <a:ext cx="7937640" cy="566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cc"/>
                </a:solidFill>
                <a:latin typeface="Tahoma"/>
              </a:rPr>
              <a:t>INDICADORES FINANCIEROS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7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ahoma"/>
              </a:rPr>
              <a:t>Valor Actual Neto:  VAN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7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ahoma"/>
              </a:rPr>
              <a:t>Tasa Interna de Retorno: TIR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7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ahoma"/>
              </a:rPr>
              <a:t>Relación Beneficio Costo: R(B/C)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cc"/>
                </a:solidFill>
                <a:latin typeface="Tahoma"/>
              </a:rPr>
              <a:t>¿Qué es la evaluación Económica - Social?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440" y="19810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ahoma"/>
              </a:rPr>
              <a:t>Es el estudio que se hace a los proyectos con el fin de medir la contribución y los aportes que dan al crecimiento económico y al bienestar social de un país.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2" name="Object 8" descr=""/>
          <p:cNvPicPr/>
          <p:nvPr/>
        </p:nvPicPr>
        <p:blipFill>
          <a:blip r:embed="rId1"/>
          <a:stretch/>
        </p:blipFill>
        <p:spPr>
          <a:xfrm>
            <a:off x="7769160" y="5486400"/>
            <a:ext cx="1379520" cy="1371600"/>
          </a:xfrm>
          <a:prstGeom prst="rect">
            <a:avLst/>
          </a:prstGeom>
          <a:ln w="0">
            <a:noFill/>
          </a:ln>
        </p:spPr>
      </p:pic>
      <p:pic>
        <p:nvPicPr>
          <p:cNvPr id="213" name="Object 9" descr=""/>
          <p:cNvPicPr/>
          <p:nvPr/>
        </p:nvPicPr>
        <p:blipFill>
          <a:blip r:embed="rId2"/>
          <a:stretch/>
        </p:blipFill>
        <p:spPr>
          <a:xfrm>
            <a:off x="5486400" y="5451480"/>
            <a:ext cx="914400" cy="1406520"/>
          </a:xfrm>
          <a:prstGeom prst="rect">
            <a:avLst/>
          </a:prstGeom>
          <a:ln w="0">
            <a:noFill/>
          </a:ln>
        </p:spPr>
      </p:pic>
      <p:sp>
        <p:nvSpPr>
          <p:cNvPr id="214" name="AutoShape 10"/>
          <p:cNvSpPr/>
          <p:nvPr/>
        </p:nvSpPr>
        <p:spPr>
          <a:xfrm>
            <a:off x="6477120" y="5943600"/>
            <a:ext cx="1066680" cy="380880"/>
          </a:xfrm>
          <a:prstGeom prst="rightArrow">
            <a:avLst>
              <a:gd name="adj1" fmla="val 50000"/>
              <a:gd name="adj2" fmla="val 70040"/>
            </a:avLst>
          </a:prstGeom>
          <a:solidFill>
            <a:srgbClr val="0f6fc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cc"/>
                </a:solidFill>
                <a:latin typeface="Tahoma"/>
                <a:ea typeface="Tahoma"/>
              </a:rPr>
              <a:t>DIFERENCIAS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761760" y="1773360"/>
            <a:ext cx="3809880" cy="462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cc"/>
                </a:solidFill>
                <a:latin typeface="Tahoma"/>
              </a:rPr>
              <a:t>Financier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Tahoma"/>
              </a:rPr>
              <a:t>El objetivo lo define el empresari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Tahoma"/>
              </a:rPr>
              <a:t>Precios de Mercad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Tahoma"/>
              </a:rPr>
              <a:t>Resultados: Costos e Ingresos solo de la Empres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Tahoma"/>
              </a:rPr>
              <a:t>Metodología e información relativamente conocid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724280" y="1773000"/>
            <a:ext cx="381024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cc"/>
                </a:solidFill>
                <a:latin typeface="Tahoma"/>
              </a:rPr>
              <a:t>Económica Socia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Tahoma"/>
              </a:rPr>
              <a:t>El objetivo lo define el gobiern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Tahoma"/>
              </a:rPr>
              <a:t>Precios Sociales o Sombr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Tahoma"/>
              </a:rPr>
              <a:t>Resultados: Costos y Beneficios Social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Tahoma"/>
              </a:rPr>
              <a:t>Metodología e información compleja y poco conocid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cc"/>
                </a:solidFill>
                <a:latin typeface="Tahoma"/>
              </a:rPr>
              <a:t>MEDICION DE LA EFICIENCIA Y LA EQUIDAD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ahoma"/>
              </a:rPr>
              <a:t>Metodología Costo - Beneficio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ahoma"/>
              </a:rPr>
              <a:t>Metodología Costo - Efectividad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18880" y="425520"/>
            <a:ext cx="8856360" cy="110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0000cc"/>
                </a:solidFill>
                <a:latin typeface="Tahoma"/>
              </a:rPr>
              <a:t>CONTENIDO DE LA EVALUACIÓN ECONÓMICA-SOCIAL</a:t>
            </a:r>
            <a:br>
              <a:rPr sz="2500"/>
            </a:br>
            <a:r>
              <a:rPr b="1" lang="es-ES_tradnl" sz="2500" spc="-1" strike="noStrike">
                <a:solidFill>
                  <a:srgbClr val="0000cc"/>
                </a:solidFill>
                <a:latin typeface="Tahoma"/>
              </a:rPr>
              <a:t>(METODOLOGÍA COSTO/BENEFICIO)</a:t>
            </a:r>
            <a:endParaRPr b="0" lang="en-US" sz="2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85440" y="14479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Tahoma"/>
              </a:rPr>
              <a:t>Información sobre precios sociales o de cuenta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Tahoma"/>
              </a:rPr>
              <a:t>Flujo Económico-Social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Tahoma"/>
              </a:rPr>
              <a:t>Calcular los indicadores Económicos Sociales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7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Tahoma"/>
              </a:rPr>
              <a:t>VANES o VPNES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7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Tahoma"/>
              </a:rPr>
              <a:t>TIRES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Tahoma"/>
              </a:rPr>
              <a:t>Costos y beneficios sociales intangibles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Tahoma"/>
              </a:rPr>
              <a:t>Impactos Macroeconómicos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26T20:23:16Z</dcterms:created>
  <dc:creator>Sergio Vega Mayorga</dc:creator>
  <dc:description/>
  <dc:language>en-US</dc:language>
  <cp:lastModifiedBy>Sergio Ivan Vega Mayorga</cp:lastModifiedBy>
  <cp:lastPrinted>1998-02-28T04:41:09Z</cp:lastPrinted>
  <dcterms:modified xsi:type="dcterms:W3CDTF">2022-03-12T20:42:59Z</dcterms:modified>
  <cp:revision>145</cp:revision>
  <dc:subject/>
  <dc:title>Qué es la evaluación Económica - Social</dc:title>
</cp:coreProperties>
</file>